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9773-7CF4-43B0-9528-DD873A75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95E6-A1D1-46A5-8A98-66EA474F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A55-0CC1-4EC3-863D-7EAA86E6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091E-0419-45AE-839B-6C9FB307C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8B34-E005-439A-B39D-7C2A7901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0F6-6AA7-4077-96BE-6108946C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421-39FA-4450-BA39-9863F0C3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61FF-08AF-49B9-A01E-E962D068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3F6F-E407-489F-AFB6-0284BEAC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4518-2057-40F2-A053-58BE10F2D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E02-6419-48AC-A517-0EBEA822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23D-4DC5-45CA-A3D8-8FDF28F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61A-30F5-479D-BB5E-9F2F9A1F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243-CF60-4AFB-B3E9-79C671E1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91E-EB4D-495A-B5DC-D4ADFE11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FD40-1FE1-4425-AADC-13E65CF5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AD64-49BE-4E9B-AFC8-0DCC3C9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C711-DF6B-4116-9C05-BF9AC3E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F0C7-C461-4B32-8E2F-BE8CFF6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4613-0020-47D3-89D3-9F93B527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6469-8330-4A70-9A34-7AF5E824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ADE-3B08-4AA7-A163-8A59B097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17E9-5146-4E77-97EC-B0EA81D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B55-3DAF-4247-A03B-A4970520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7D56-19DF-4CB3-A9D9-836A270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56BE-91B8-4542-B8FA-032C1A85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7E0-4C03-42FE-BB66-E05CD9E5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CFF-B4D3-45A7-91F8-27541B5F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DB6-5948-49C3-B509-2E4D0141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673-C768-472E-A65A-4D2D7A9B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91A-EA6B-490C-8B6B-A7C0DABB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4E4-4FFF-450D-9C05-DE55E6F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4B5-8D81-45C2-9196-A5DFE51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164-331F-462C-9A24-C81587CD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634A-DD53-41AE-B095-85681C87DD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1246-09CD-4724-9C43-19DF69DDE7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389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AE J1939 is a standard used for vehicle communication and diagnosti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so called a “datalink” or a “Controller Area Network” (CA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aster and more reliable than previous J1708 and J1587 specif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1939 reduces vehicle wiring and communicates a broad range of information includin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hicle operation contr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wertrain inte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hicle management in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erence the Allison Extranet for detailed datalink information including J193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3" descr="swfButton.png"/>
          <p:cNvPicPr/>
          <p:nvPr/>
        </p:nvPicPr>
        <p:blipFill>
          <a:blip r:embed="rId1"/>
          <a:stretch/>
        </p:blipFill>
        <p:spPr>
          <a:xfrm>
            <a:off x="19098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swfButton.png"/>
          <p:cNvPicPr/>
          <p:nvPr/>
        </p:nvPicPr>
        <p:blipFill>
          <a:blip r:embed="rId2"/>
          <a:stretch/>
        </p:blipFill>
        <p:spPr>
          <a:xfrm>
            <a:off x="31179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swfButton.png"/>
          <p:cNvPicPr/>
          <p:nvPr/>
        </p:nvPicPr>
        <p:blipFill>
          <a:blip r:embed="rId3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tretch/>
        </p:blipFill>
        <p:spPr>
          <a:xfrm>
            <a:off x="4352760" y="1517760"/>
            <a:ext cx="4638960" cy="3495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8" name="TextBox 4"/>
          <p:cNvSpPr/>
          <p:nvPr/>
        </p:nvSpPr>
        <p:spPr>
          <a:xfrm>
            <a:off x="5431680" y="5021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00/2000 Product Families J19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able Constr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39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E J1939-11 cable is shielded and includes a 120 ohm impedance twisted pair and a drain wi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pedance affects the volume and rate of information flow and must be correct for proper databus ope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s-matched cables, tight bends, long breaks in shielding and improper cable design can affect impedance and perform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per wires, terminals, connectors and components must be used  whenever building or repairing J1939 c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E J1939-15 (J1939 “Light”) uses unshielded cable and is not Allison recommended due to increased susceptibility to electromagnetic interfere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75080" y="1517760"/>
            <a:ext cx="4543560" cy="3600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Backbone Desig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384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J1939 networks consist of a central “backbone” with “stubs” branching to individual controllers or “nodes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 120 ohm termination resistor is required at each end of the backb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ination resistors can be built into some electronic components, including Allison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Generation Controls TCMs and J1939-based shift sele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ackbones may be no longer than 40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ubs may be no longer than 1 meter and spaced at least 10 centimeters apar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305240" y="1517760"/>
            <a:ext cx="4686480" cy="3924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Termination Resistor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th all controllers connected but powered off and both termination resistors in place, approximately 60 ohms resistance should exist between terminals A and B of a stub conne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sure between terminals C and D on 9-pin in-cab diagnostic conne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ohms indicates one of the termination resistors is not install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is can also indicate an open somewhere in the backb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 ohms indicates a short between CAN high and CAN low wi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ort could be in the backbone or one of the stub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543560" y="1517760"/>
            <a:ext cx="4389480" cy="4000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Opens and Short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ns can affect one or more controllers but will have the most impact on the controller attached to the affected stu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horts typically generate multiple controller err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ns and shorts can be located by performing continuity chec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swfButton.png"/>
          <p:cNvPicPr/>
          <p:nvPr/>
        </p:nvPicPr>
        <p:blipFill>
          <a:blip r:embed="rId2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swfButton.png"/>
          <p:cNvPicPr/>
          <p:nvPr/>
        </p:nvPicPr>
        <p:blipFill>
          <a:blip r:embed="rId3"/>
          <a:stretch/>
        </p:blipFill>
        <p:spPr>
          <a:xfrm>
            <a:off x="3433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4"/>
          <a:stretch/>
        </p:blipFill>
        <p:spPr>
          <a:xfrm>
            <a:off x="3927600" y="1511280"/>
            <a:ext cx="5913360" cy="457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Opens and Shor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354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advanced diagnostics can be performed using Allison DOC™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 the Data Bus Viewe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erence Datalink Communications Tech Data for Parameter descriptio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data is being broadcast and/or receiv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swfButton.png"/>
          <p:cNvPicPr/>
          <p:nvPr/>
        </p:nvPicPr>
        <p:blipFill>
          <a:blip r:embed="rId2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swfButton.png"/>
          <p:cNvPicPr/>
          <p:nvPr/>
        </p:nvPicPr>
        <p:blipFill>
          <a:blip r:embed="rId3"/>
          <a:stretch/>
        </p:blipFill>
        <p:spPr>
          <a:xfrm>
            <a:off x="3433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927600" y="1511280"/>
            <a:ext cx="5913360" cy="457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Inducted Nois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per backbone routing minimizes inducted noise iss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void routing near high-current switching de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lenoi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tern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lasher mo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igh output CB rad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arter mo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l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e Allison DOC™ Data Bus Viewer to monitor datalink messages while trying to recreate the iss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atch for errors or pauses in datalink traff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18000" y="1542960"/>
            <a:ext cx="5186520" cy="3890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Calibration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spect an improper calibration or CMC settings if the system worked fine before, but not after recalibrating any networked controller softw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tential Allison miscalibration cau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uto-Detect completed before all controllers were connected to the datalin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eset Auto-Detect using Allison DOC™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calibration was created with an incorrect datalink package, requiring installation of a new calibr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294080" y="1517760"/>
            <a:ext cx="4764240" cy="334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3" name="Straight Connector 4"/>
          <p:cNvSpPr/>
          <p:nvPr/>
        </p:nvSpPr>
        <p:spPr>
          <a:xfrm flipV="1">
            <a:off x="6945480" y="1698480"/>
            <a:ext cx="57600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7449480" y="15127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"/>
          <p:cNvSpPr/>
          <p:nvPr/>
        </p:nvSpPr>
        <p:spPr>
          <a:xfrm>
            <a:off x="5540400" y="4321080"/>
            <a:ext cx="730080" cy="89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108760" y="514836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MC settings must be corr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Calibration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tential engine miscalibration cau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mission Type incorrectly s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compatible engine governor select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gine brake options incorrectly s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1939 communication not activat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94080" y="1517760"/>
            <a:ext cx="4764240" cy="334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1" name="Straight Connector 4"/>
          <p:cNvSpPr/>
          <p:nvPr/>
        </p:nvSpPr>
        <p:spPr>
          <a:xfrm flipV="1">
            <a:off x="6945480" y="1698480"/>
            <a:ext cx="57600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449480" y="15127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7"/>
          <p:cNvSpPr/>
          <p:nvPr/>
        </p:nvSpPr>
        <p:spPr>
          <a:xfrm>
            <a:off x="5540400" y="4321080"/>
            <a:ext cx="730080" cy="89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108760" y="514836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MC settings must be corr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7:47Z</dcterms:modified>
  <cp:revision>350</cp:revision>
  <dc:subject/>
  <dc:title>Introduction</dc:title>
</cp:coreProperties>
</file>