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24F6-A140-429D-BF6F-421436C8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BF45-BF85-4E1B-8B4E-9A0713CCB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6E3C-D1E2-40EB-94E2-61BD39298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DCDF-A89C-4127-A0CF-C8DBED8ED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938A-55A5-4FD2-9256-222C741F6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DA7B-09E6-410C-90D6-9287F2C94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9573-E6F8-4A1C-A8D4-DFE871993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44CB-DFF8-4CCE-831D-083E1B9A4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D9EA-4BA8-4C03-B86B-D4142CCDB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174-72B4-48E6-888A-9DC7F238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8DC-6397-4B60-A602-FC9F4070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43E-C293-424A-9110-7F08E235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116-7AE1-448A-82B0-04F315D7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16C-5188-48BD-B7E0-7442FAFC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780E-B0C9-44A2-A127-CBE80DF2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65B3-417C-4178-816D-29E47B50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AACD-5AB4-42CC-AD62-0C9F177C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C253-CD2F-43C1-BE75-5AECF3A5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7F16-8557-4C02-9C4D-7C31A70B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86E0-56D0-4416-B066-DA13755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A7D-A97C-4A6A-8595-6717F967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42CD-ADCF-4E64-BBBA-75423104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35CC-C53E-4C2D-99C6-EE27A31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7773-4966-4DAA-8DE7-7BB0257B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F4DC-B7A5-4ADE-96D7-F37C5A5C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89C5-2129-45B3-90C7-9E1B0A7B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EB1-ABF9-4978-8636-8940C449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9DD-B419-4BBA-9158-52041EB1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EC9-2B14-4CB3-BAE3-6F619EB5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8C3-9438-42AB-B161-CB976DA0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727-A1AA-4BED-AE88-BC3BC01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013-518A-4DEF-99C0-4C84E495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D6B-D19F-42F6-881F-394D78A4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4B39-F100-4B15-9C6C-D227F7B123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0404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55AD-4298-4384-9EC4-C3407052C3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rform a stall test to determine whether a power complaint is related to the engine or transmi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ll tests create high torque and high he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o not stall test in Low or Reverse Range – use low torque ranges on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 aware of rapid transmission fluid temperature increase when stall tes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4268880" y="1517760"/>
            <a:ext cx="4917960" cy="442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swfButton.png"/>
          <p:cNvPicPr/>
          <p:nvPr/>
        </p:nvPicPr>
        <p:blipFill>
          <a:blip r:embed="rId2"/>
          <a:stretch/>
        </p:blipFill>
        <p:spPr>
          <a:xfrm>
            <a:off x="190980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swfButton.png"/>
          <p:cNvPicPr/>
          <p:nvPr/>
        </p:nvPicPr>
        <p:blipFill>
          <a:blip r:embed="rId3"/>
          <a:stretch/>
        </p:blipFill>
        <p:spPr>
          <a:xfrm>
            <a:off x="311796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wfButton.png"/>
          <p:cNvPicPr/>
          <p:nvPr/>
        </p:nvPicPr>
        <p:blipFill>
          <a:blip r:embed="rId4"/>
          <a:stretch/>
        </p:blipFill>
        <p:spPr>
          <a:xfrm>
            <a:off x="571680" y="617364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swfButton.png"/>
          <p:cNvPicPr/>
          <p:nvPr/>
        </p:nvPicPr>
        <p:blipFill>
          <a:blip r:embed="rId5"/>
          <a:stretch/>
        </p:blipFill>
        <p:spPr>
          <a:xfrm>
            <a:off x="436392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Stall Test Prepara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tall or use a known-good tachome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tall a temperature gauge in the transmission Converter-Out circu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rify the transmission fluid level is correct at normal operating temperature (160-200 degrees Fahrenheit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rify that the engine throttle, air induction and smoke controls systems (if equipped) are operating proper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ock the vehicle wheels and clear all personnel from the front, sides and rear of the vehic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urn off all vehicle accessories including the P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364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4541760" y="1616040"/>
            <a:ext cx="4656240" cy="3867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4454640" y="1539720"/>
            <a:ext cx="2065320" cy="1189080"/>
          </a:xfrm>
          <a:prstGeom prst="rect">
            <a:avLst/>
          </a:prstGeom>
          <a:solidFill>
            <a:srgbClr val="9e0000"/>
          </a:solidFill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ison DOC™ can be used to monitor engine speed, transmission fluid temperature and to command a specific transmission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Static Stall Test Procedures (Vehicle Stopped)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359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With the engine running, apply the parking brake and service brake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Shift the transmission into a forward range other than Low (if equipped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Slowly depress the accelerator while holding the service brake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cord engine rpm when the tachometer stabilize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Slowly release the accelerator, select Neutral and cool the transmission by running the engine between 1200 and 1500 rpm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364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swfButton.png"/>
          <p:cNvPicPr/>
          <p:nvPr/>
        </p:nvPicPr>
        <p:blipFill>
          <a:blip r:embed="rId2"/>
          <a:stretch/>
        </p:blipFill>
        <p:spPr>
          <a:xfrm>
            <a:off x="33148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swfButton.png"/>
          <p:cNvPicPr/>
          <p:nvPr/>
        </p:nvPicPr>
        <p:blipFill>
          <a:blip r:embed="rId3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"/>
          <p:cNvGrpSpPr/>
          <p:nvPr/>
        </p:nvGrpSpPr>
        <p:grpSpPr>
          <a:xfrm>
            <a:off x="4048200" y="1954080"/>
            <a:ext cx="5068800" cy="4066200"/>
            <a:chOff x="4048200" y="1954080"/>
            <a:chExt cx="5068800" cy="4066200"/>
          </a:xfrm>
        </p:grpSpPr>
        <p:pic>
          <p:nvPicPr>
            <p:cNvPr id="112" name="Picture 11" descr=""/>
            <p:cNvPicPr/>
            <p:nvPr/>
          </p:nvPicPr>
          <p:blipFill>
            <a:blip r:embed="rId4"/>
            <a:stretch/>
          </p:blipFill>
          <p:spPr>
            <a:xfrm>
              <a:off x="4048200" y="1954080"/>
              <a:ext cx="5068800" cy="34156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13" name="TextBox 9"/>
            <p:cNvSpPr/>
            <p:nvPr/>
          </p:nvSpPr>
          <p:spPr>
            <a:xfrm>
              <a:off x="7392600" y="5561280"/>
              <a:ext cx="80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Clu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"/>
            <p:cNvSpPr/>
            <p:nvPr/>
          </p:nvSpPr>
          <p:spPr>
            <a:xfrm>
              <a:off x="7036560" y="3348360"/>
              <a:ext cx="1867320" cy="583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Straight Arrow Connector 4"/>
            <p:cNvCxnSpPr>
              <a:stCxn id="113" idx="0"/>
            </p:cNvCxnSpPr>
            <p:nvPr/>
          </p:nvCxnSpPr>
          <p:spPr>
            <a:xfrm flipH="1" flipV="1">
              <a:off x="7794720" y="3932280"/>
              <a:ext cx="1080" cy="16293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Stall Testing Smoke Controlled Vehicle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moke controls and throttle delay mechanisms inhibit engine acceleration and may require stall testing with the vehicle mov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ocate an isolated area away from people and traff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lect 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or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range to limit road spe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rive the vehicle at full throttle or maximum governed rp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lowly apply the service brakes while maintaining full thrott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2"/>
          <a:stretch/>
        </p:blipFill>
        <p:spPr>
          <a:xfrm>
            <a:off x="4505400" y="1757520"/>
            <a:ext cx="4525920" cy="3162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Stall Testing Smoke Controlled Vehicle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moke controls and throttle delay mechanisms inhibit engine acceleration and may require stall testing with the vehicle mov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ord the engine rpm when vehicle comes to a complete sto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lease the throttle and allow the engine to return to id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lect Neutral and run the engine between 1200 and 1500 rpm to cool the transmi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Allison DOC™ to command and hold a specific r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4505400" y="1757520"/>
            <a:ext cx="4525920" cy="3162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nalyzing Stall Test Result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384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ference the engine manufacturer’s stall test specification and compare to test resul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6338520" y="60418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6665760" y="5605560"/>
            <a:ext cx="20880" cy="43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"/>
          <p:cNvPicPr/>
          <p:nvPr/>
        </p:nvPicPr>
        <p:blipFill>
          <a:blip r:embed="rId2"/>
          <a:stretch/>
        </p:blipFill>
        <p:spPr>
          <a:xfrm>
            <a:off x="5361120" y="4343400"/>
            <a:ext cx="2428920" cy="159084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13"/>
          <p:cNvSpPr/>
          <p:nvPr/>
        </p:nvSpPr>
        <p:spPr>
          <a:xfrm flipH="1">
            <a:off x="5878440" y="5605560"/>
            <a:ext cx="457200" cy="490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5"/>
          <p:cNvSpPr/>
          <p:nvPr/>
        </p:nvSpPr>
        <p:spPr>
          <a:xfrm>
            <a:off x="7250040" y="5475240"/>
            <a:ext cx="434880" cy="459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5213520" y="60213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7646040" y="58896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4416480" y="1882800"/>
            <a:ext cx="21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tremely 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6680160" y="18828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6680520" y="206856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eewheeling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6680160" y="24271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6681600" y="299412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pping Clu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6682320" y="3189240"/>
            <a:ext cx="225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Converter-Out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6677640" y="353844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ck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6681960" y="371160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oling System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6680160" y="27972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29"/>
          <p:cNvSpPr/>
          <p:nvPr/>
        </p:nvSpPr>
        <p:spPr>
          <a:xfrm>
            <a:off x="6599160" y="1687680"/>
            <a:ext cx="0" cy="230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4095"/>
          <p:cNvSpPr/>
          <p:nvPr/>
        </p:nvSpPr>
        <p:spPr>
          <a:xfrm>
            <a:off x="4430880" y="2400480"/>
            <a:ext cx="4520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3"/>
          <p:cNvSpPr/>
          <p:nvPr/>
        </p:nvSpPr>
        <p:spPr>
          <a:xfrm>
            <a:off x="4435560" y="27907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4"/>
          <p:cNvSpPr/>
          <p:nvPr/>
        </p:nvSpPr>
        <p:spPr>
          <a:xfrm>
            <a:off x="4435560" y="35323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35"/>
          <p:cNvSpPr/>
          <p:nvPr/>
        </p:nvSpPr>
        <p:spPr>
          <a:xfrm>
            <a:off x="4435560" y="184464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6"/>
          <p:cNvSpPr/>
          <p:nvPr/>
        </p:nvSpPr>
        <p:spPr>
          <a:xfrm>
            <a:off x="4416480" y="2427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7"/>
          <p:cNvSpPr/>
          <p:nvPr/>
        </p:nvSpPr>
        <p:spPr>
          <a:xfrm>
            <a:off x="4416120" y="279720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8"/>
          <p:cNvSpPr/>
          <p:nvPr/>
        </p:nvSpPr>
        <p:spPr>
          <a:xfrm>
            <a:off x="4419000" y="353844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mproper Cool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0"/>
          <p:cNvSpPr/>
          <p:nvPr/>
        </p:nvSpPr>
        <p:spPr>
          <a:xfrm>
            <a:off x="4412160" y="153504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6679440" y="1535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nalyzing Stall Test Result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ults often identify stator probl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reewheeling stator symptom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tremely low stall sp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 power at low vehicle speed but normal power at high vehicle sp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levated transmission fluid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ansmission will not upshift under full thro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6338520" y="60418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9"/>
          <p:cNvSpPr/>
          <p:nvPr/>
        </p:nvSpPr>
        <p:spPr>
          <a:xfrm>
            <a:off x="6665760" y="5605560"/>
            <a:ext cx="20880" cy="43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"/>
          <p:cNvPicPr/>
          <p:nvPr/>
        </p:nvPicPr>
        <p:blipFill>
          <a:blip r:embed="rId1"/>
          <a:stretch/>
        </p:blipFill>
        <p:spPr>
          <a:xfrm>
            <a:off x="5361120" y="4343400"/>
            <a:ext cx="2428920" cy="1590840"/>
          </a:xfrm>
          <a:prstGeom prst="rect">
            <a:avLst/>
          </a:prstGeom>
          <a:ln w="0">
            <a:noFill/>
          </a:ln>
        </p:spPr>
      </p:pic>
      <p:sp>
        <p:nvSpPr>
          <p:cNvPr id="161" name="Straight Connector 13"/>
          <p:cNvSpPr/>
          <p:nvPr/>
        </p:nvSpPr>
        <p:spPr>
          <a:xfrm flipH="1">
            <a:off x="5878440" y="5605560"/>
            <a:ext cx="457200" cy="490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5"/>
          <p:cNvSpPr/>
          <p:nvPr/>
        </p:nvSpPr>
        <p:spPr>
          <a:xfrm>
            <a:off x="7250040" y="5475240"/>
            <a:ext cx="434880" cy="459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5213520" y="60213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7646040" y="58896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4416480" y="1882800"/>
            <a:ext cx="21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tremely 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6680160" y="18828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6680520" y="206856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eewheeling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6680160" y="24271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4"/>
          <p:cNvSpPr/>
          <p:nvPr/>
        </p:nvSpPr>
        <p:spPr>
          <a:xfrm>
            <a:off x="6681600" y="299412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pping Clu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5"/>
          <p:cNvSpPr/>
          <p:nvPr/>
        </p:nvSpPr>
        <p:spPr>
          <a:xfrm>
            <a:off x="6682320" y="3189240"/>
            <a:ext cx="225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Converter-Out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6677640" y="353844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ck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6681960" y="371160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oling System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8"/>
          <p:cNvSpPr/>
          <p:nvPr/>
        </p:nvSpPr>
        <p:spPr>
          <a:xfrm>
            <a:off x="6680160" y="27972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9"/>
          <p:cNvSpPr/>
          <p:nvPr/>
        </p:nvSpPr>
        <p:spPr>
          <a:xfrm>
            <a:off x="6599160" y="1687680"/>
            <a:ext cx="0" cy="230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4095"/>
          <p:cNvSpPr/>
          <p:nvPr/>
        </p:nvSpPr>
        <p:spPr>
          <a:xfrm>
            <a:off x="4430880" y="2400480"/>
            <a:ext cx="4520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33"/>
          <p:cNvSpPr/>
          <p:nvPr/>
        </p:nvSpPr>
        <p:spPr>
          <a:xfrm>
            <a:off x="4435560" y="27907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34"/>
          <p:cNvSpPr/>
          <p:nvPr/>
        </p:nvSpPr>
        <p:spPr>
          <a:xfrm>
            <a:off x="4435560" y="35323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5"/>
          <p:cNvSpPr/>
          <p:nvPr/>
        </p:nvSpPr>
        <p:spPr>
          <a:xfrm>
            <a:off x="4435560" y="184464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6"/>
          <p:cNvSpPr/>
          <p:nvPr/>
        </p:nvSpPr>
        <p:spPr>
          <a:xfrm>
            <a:off x="4416480" y="2427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7"/>
          <p:cNvSpPr/>
          <p:nvPr/>
        </p:nvSpPr>
        <p:spPr>
          <a:xfrm>
            <a:off x="4416120" y="279720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8"/>
          <p:cNvSpPr/>
          <p:nvPr/>
        </p:nvSpPr>
        <p:spPr>
          <a:xfrm>
            <a:off x="4419000" y="353844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mproper Cool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0"/>
          <p:cNvSpPr/>
          <p:nvPr/>
        </p:nvSpPr>
        <p:spPr>
          <a:xfrm>
            <a:off x="4412160" y="153504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1"/>
          <p:cNvSpPr/>
          <p:nvPr/>
        </p:nvSpPr>
        <p:spPr>
          <a:xfrm>
            <a:off x="6679440" y="1535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nalyzing Stall Test Result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ults often identify stator probl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uck stator symptom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igh torque converter-out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hicle will not reach top sp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ansmission overheats at highway sp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6338520" y="60418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9"/>
          <p:cNvSpPr/>
          <p:nvPr/>
        </p:nvSpPr>
        <p:spPr>
          <a:xfrm>
            <a:off x="6665760" y="5605560"/>
            <a:ext cx="20880" cy="43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"/>
          <p:cNvPicPr/>
          <p:nvPr/>
        </p:nvPicPr>
        <p:blipFill>
          <a:blip r:embed="rId1"/>
          <a:stretch/>
        </p:blipFill>
        <p:spPr>
          <a:xfrm>
            <a:off x="5361120" y="4343400"/>
            <a:ext cx="2428920" cy="1590840"/>
          </a:xfrm>
          <a:prstGeom prst="rect">
            <a:avLst/>
          </a:prstGeom>
          <a:ln w="0">
            <a:noFill/>
          </a:ln>
        </p:spPr>
      </p:pic>
      <p:sp>
        <p:nvSpPr>
          <p:cNvPr id="190" name="Straight Connector 13"/>
          <p:cNvSpPr/>
          <p:nvPr/>
        </p:nvSpPr>
        <p:spPr>
          <a:xfrm flipH="1">
            <a:off x="5878440" y="5605560"/>
            <a:ext cx="457200" cy="490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5"/>
          <p:cNvSpPr/>
          <p:nvPr/>
        </p:nvSpPr>
        <p:spPr>
          <a:xfrm>
            <a:off x="7250040" y="5475240"/>
            <a:ext cx="434880" cy="459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5213520" y="60213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7646040" y="58896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4416480" y="1882800"/>
            <a:ext cx="21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tremely 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6680160" y="18828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2"/>
          <p:cNvSpPr/>
          <p:nvPr/>
        </p:nvSpPr>
        <p:spPr>
          <a:xfrm>
            <a:off x="6680520" y="206856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eewheeling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6680160" y="24271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4"/>
          <p:cNvSpPr/>
          <p:nvPr/>
        </p:nvSpPr>
        <p:spPr>
          <a:xfrm>
            <a:off x="6681600" y="299412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pping Clu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5"/>
          <p:cNvSpPr/>
          <p:nvPr/>
        </p:nvSpPr>
        <p:spPr>
          <a:xfrm>
            <a:off x="6682320" y="3189240"/>
            <a:ext cx="225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Converter-Out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6"/>
          <p:cNvSpPr/>
          <p:nvPr/>
        </p:nvSpPr>
        <p:spPr>
          <a:xfrm>
            <a:off x="6677640" y="353844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ck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7"/>
          <p:cNvSpPr/>
          <p:nvPr/>
        </p:nvSpPr>
        <p:spPr>
          <a:xfrm>
            <a:off x="6681960" y="371160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oling System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8"/>
          <p:cNvSpPr/>
          <p:nvPr/>
        </p:nvSpPr>
        <p:spPr>
          <a:xfrm>
            <a:off x="6680160" y="27972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29"/>
          <p:cNvSpPr/>
          <p:nvPr/>
        </p:nvSpPr>
        <p:spPr>
          <a:xfrm>
            <a:off x="6599160" y="1687680"/>
            <a:ext cx="0" cy="230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4095"/>
          <p:cNvSpPr/>
          <p:nvPr/>
        </p:nvSpPr>
        <p:spPr>
          <a:xfrm>
            <a:off x="4430880" y="2400480"/>
            <a:ext cx="4520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33"/>
          <p:cNvSpPr/>
          <p:nvPr/>
        </p:nvSpPr>
        <p:spPr>
          <a:xfrm>
            <a:off x="4435560" y="27907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34"/>
          <p:cNvSpPr/>
          <p:nvPr/>
        </p:nvSpPr>
        <p:spPr>
          <a:xfrm>
            <a:off x="4435560" y="35323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5"/>
          <p:cNvSpPr/>
          <p:nvPr/>
        </p:nvSpPr>
        <p:spPr>
          <a:xfrm>
            <a:off x="4435560" y="184464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6"/>
          <p:cNvSpPr/>
          <p:nvPr/>
        </p:nvSpPr>
        <p:spPr>
          <a:xfrm>
            <a:off x="4416480" y="2427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7"/>
          <p:cNvSpPr/>
          <p:nvPr/>
        </p:nvSpPr>
        <p:spPr>
          <a:xfrm>
            <a:off x="4416120" y="279720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8"/>
          <p:cNvSpPr/>
          <p:nvPr/>
        </p:nvSpPr>
        <p:spPr>
          <a:xfrm>
            <a:off x="4419000" y="353844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mproper Cool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0"/>
          <p:cNvSpPr/>
          <p:nvPr/>
        </p:nvSpPr>
        <p:spPr>
          <a:xfrm>
            <a:off x="4412160" y="153504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1"/>
          <p:cNvSpPr/>
          <p:nvPr/>
        </p:nvSpPr>
        <p:spPr>
          <a:xfrm>
            <a:off x="6679440" y="1535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4-02T17:45:37Z</dcterms:modified>
  <cp:revision>375</cp:revision>
  <dc:subject/>
  <dc:title>Introduction</dc:title>
</cp:coreProperties>
</file>