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B2BF-C53D-446C-A024-7050C28EC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ADA9-F04A-4802-B0C6-F568068A9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88B4-2B3C-41CF-956B-526C7BD18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518B-24B4-45ED-AA6F-2FDFDBFED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5DF4-08D2-4A6F-94CF-C6F627531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D184-FC54-420B-B916-664EEFB66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903F-4AA3-442B-9EDD-15F6D3DBC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D310-BA7C-4B67-9FE9-65C7D7BDB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F95F-0DC0-431D-8BA1-B4DDC41AC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A24F-BE61-4486-9B72-02A5294B4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1BB7-9E9E-4CB7-9B21-04259A21F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07EE-1F3A-4B70-885C-D8081B3F4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4802-EA28-4AC6-B0F5-5483A4022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7BB7-2B1E-4CC3-8EBE-A24B150F0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AB48-B287-4816-8B64-22057A48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29D4-64F3-4213-AE2D-EB1989DD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938E-6BC7-418E-B524-EFCB4B15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486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2400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8486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2400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9B50-E754-4BB2-BD00-02C430FF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2B47-7BA4-489B-A9B2-2D5567D6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CAFD-3C1F-41F6-847B-DEC6EB81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E5AB-ABE3-45D9-B74A-373D3154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C1CE-F440-49CD-9544-4F00DB65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2B3D-31D5-4472-AD33-BF68BD14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686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6D9F-3923-4CCA-8C69-649CCF54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3230-F3A4-4523-B854-C2A1D603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753-8528-4B80-A8C7-B4A18070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5879-5BC7-452B-9253-8C3771D1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B1BF-C634-408E-89FA-CFC6E82D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59F0-25FD-4D60-AE22-B832C173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868C-C161-4FD3-88ED-2A5A0A8A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486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8486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32400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B1A0-12DB-49ED-A1CD-EFE6BEB5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A6C-27DD-4718-8FE7-B7D8D2DB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C9F-C5E4-49D1-89CF-E525AFDA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B77-879F-41A9-845C-7211A1A2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686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F08-36F9-4309-B576-66036D9C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E228-8CBF-40DF-80E2-23647D80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C25-51FF-440E-8683-DA35A4D7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586-BD2D-49D4-9E76-D7C9D00E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3248-4D2C-4220-9B05-31C8EAF339E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2971800" y="76320"/>
            <a:ext cx="617220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Product Familiar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40404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56E6-2D5A-40BE-86FE-043449888C8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2971800" y="76320"/>
            <a:ext cx="617220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Product Famili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Adaptation Components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put adaptation components connect the transmission torque converter to the engine crankshaf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ront-end transmission component damage is often related to input adapt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isually inspect all adaptation components for wear, damage or distor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erform input adaptation measurements prior to installing the transmi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4952880" y="2030400"/>
            <a:ext cx="3638520" cy="2847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5" name="TextBox 6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Flexplate Bolt Hole Flatness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stall the hub adapter, flexplates, flexplate adapter and wear plate on the engine and torque the crankshaft bol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ount the dial indicator base on the flywheel hous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osition the dial indicator base on the flywheel hous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osition the dial indicator button on the flexplates 292mm (11.5 in.) from the center of the crankshaf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Zero the indicat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 Total Indicated Runout (TI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4549680" y="1535040"/>
            <a:ext cx="4391280" cy="1905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54" name="Picture 4" descr=""/>
          <p:cNvPicPr/>
          <p:nvPr/>
        </p:nvPicPr>
        <p:blipFill>
          <a:blip r:embed="rId3"/>
          <a:stretch/>
        </p:blipFill>
        <p:spPr>
          <a:xfrm>
            <a:off x="4549680" y="4240080"/>
            <a:ext cx="4362480" cy="14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55" name="TextBox 9"/>
          <p:cNvSpPr/>
          <p:nvPr/>
        </p:nvSpPr>
        <p:spPr>
          <a:xfrm>
            <a:off x="7224840" y="3119400"/>
            <a:ext cx="155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oi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ankshaft end p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Torque Converter Axial Location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000 &amp; 2000 Product Famil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stall the hub adapter, flexplates and wear plate and torque the bol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stall the flexplate adapter to the flexplates and torque the bol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easure from the face of the flywheel housing to the face of the flexplate adapter 292mm (11.5 in.) from the center of the crankshaf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4456080" y="1720800"/>
            <a:ext cx="4343400" cy="2143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1" name="Picture 4" descr=""/>
          <p:cNvPicPr/>
          <p:nvPr/>
        </p:nvPicPr>
        <p:blipFill>
          <a:blip r:embed="rId3"/>
          <a:stretch/>
        </p:blipFill>
        <p:spPr>
          <a:xfrm>
            <a:off x="4749840" y="4657680"/>
            <a:ext cx="3933720" cy="126684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2" name="TextBox 9"/>
          <p:cNvSpPr/>
          <p:nvPr/>
        </p:nvSpPr>
        <p:spPr>
          <a:xfrm>
            <a:off x="5054400" y="3822840"/>
            <a:ext cx="317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a depth gauge to measure. Make 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ankshaft is thrust all the way rear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Torque Converter Axial Location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000 &amp; 4000 Product Famil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move the flexplate adapter from the torque convert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osition the transmission output shaft down, torque converter install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Use a depth gauge to measure from the face of the torque converter housing to the torque converter flexplate adapter mounting surfac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2851200" y="4632480"/>
            <a:ext cx="3581280" cy="131436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5373720" y="1625760"/>
            <a:ext cx="3017880" cy="2323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9" name="TextBox 9"/>
          <p:cNvSpPr/>
          <p:nvPr/>
        </p:nvSpPr>
        <p:spPr>
          <a:xfrm>
            <a:off x="5414760" y="3900600"/>
            <a:ext cx="29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example, the straight-edge width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tracted from the depth gauge rea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Final Component Installation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Position the crankshaft hub adapter on the back of the engin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Position the flexplates on the crankshaft hub adapter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Position the wear plate on the installed flexplat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nstall and torque the bolts securing the entire assembly to the back of the engin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nstall the flexplate adapter to the flexplates or torque converter (depending on configuration) and torque the mounting bolts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4870440" y="1897200"/>
            <a:ext cx="3665520" cy="2819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4" name="TextBox 5"/>
          <p:cNvSpPr/>
          <p:nvPr/>
        </p:nvSpPr>
        <p:spPr>
          <a:xfrm>
            <a:off x="5325120" y="4668840"/>
            <a:ext cx="29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ical adaptation hardware instal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Adaptation Components </a:t>
            </a:r>
            <a:r>
              <a:rPr b="1" lang="en-US" sz="1800" spc="-1" strike="noStrike">
                <a:solidFill>
                  <a:srgbClr val="bfbfbf"/>
                </a:solidFill>
                <a:latin typeface="Arial"/>
                <a:ea typeface="Arial"/>
              </a:rPr>
              <a:t>(cont’d)</a:t>
            </a:r>
            <a:endParaRPr b="0" lang="en-US" sz="18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put adaptation reference resour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 Mechanic’s Tips bookle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 Information Letter (SIL) 60-TR-81 (available on the Allison Extranet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swfButton.png"/>
          <p:cNvPicPr/>
          <p:nvPr/>
        </p:nvPicPr>
        <p:blipFill>
          <a:blip r:embed="rId2"/>
          <a:stretch/>
        </p:blipFill>
        <p:spPr>
          <a:xfrm>
            <a:off x="1909800" y="6162840"/>
            <a:ext cx="1333440" cy="285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swfButton.png"/>
          <p:cNvPicPr/>
          <p:nvPr/>
        </p:nvPicPr>
        <p:blipFill>
          <a:blip r:embed="rId3"/>
          <a:stretch/>
        </p:blipFill>
        <p:spPr>
          <a:xfrm>
            <a:off x="326556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4"/>
          <a:stretch/>
        </p:blipFill>
        <p:spPr>
          <a:xfrm>
            <a:off x="4952880" y="2030400"/>
            <a:ext cx="3638520" cy="2847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Measuring Tools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quired measuring tool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600mm (24 in.) vernier calip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0-100mm (2-4 in.) telescoping gau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5-76mm (1-3 in.) outside microme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ial indicator and mounting attachm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0-150mm (0-6 in.) depth microme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lean and inspect all components thoroughly prior to performing measure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hen installing crankshaft bolts for measuring purposes, torque the bolts per the engine manufacturer’s recommend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697280" y="2238480"/>
            <a:ext cx="4210200" cy="2417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6" name="TextBox 2"/>
          <p:cNvSpPr/>
          <p:nvPr/>
        </p:nvSpPr>
        <p:spPr>
          <a:xfrm>
            <a:off x="5339520" y="4605480"/>
            <a:ext cx="29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ical input adaptation measuring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Flywheel Housing Pilot Bore Diameter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 an inside microme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r vernier calip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easure the housing where the transmission torque conver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using lip res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890640" y="3643200"/>
            <a:ext cx="4105080" cy="207504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5375160" y="1616040"/>
            <a:ext cx="3495960" cy="2586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3" name="TextBox 9"/>
          <p:cNvSpPr/>
          <p:nvPr/>
        </p:nvSpPr>
        <p:spPr>
          <a:xfrm>
            <a:off x="5879880" y="4218120"/>
            <a:ext cx="244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easuring instrument sh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sect the housing center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Flywheel Housing Bore Runout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unt the dial indicator base on the crankshaft hub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osition the dial indicator button on the inside diameter of the flywheel hous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Zero the dial indicato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otate the crankshaft one complete revolu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ad Total Indicated Runout (TIR) – all indicator movement both positive and negativ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unout can sometimes be changed by repositioning the flywheel housing on the back of the engin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4737240" y="1789200"/>
            <a:ext cx="3771720" cy="2579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9" name="Picture 3" descr=""/>
          <p:cNvPicPr/>
          <p:nvPr/>
        </p:nvPicPr>
        <p:blipFill>
          <a:blip r:embed="rId3"/>
          <a:stretch/>
        </p:blipFill>
        <p:spPr>
          <a:xfrm>
            <a:off x="4711680" y="5087880"/>
            <a:ext cx="3943440" cy="90504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0" name="TextBox 9"/>
          <p:cNvSpPr/>
          <p:nvPr/>
        </p:nvSpPr>
        <p:spPr>
          <a:xfrm>
            <a:off x="4777920" y="4338720"/>
            <a:ext cx="377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on the indicator on the housing inside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Flywheel Housing Face Squareness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unt the dial indicator base on the crankshaft hu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sition the dial indicator button on the face of the flywheel hous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ero the dial indica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otate the crankshaft one complete revolu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 Total Indicated Runout (TIR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4765680" y="1481040"/>
            <a:ext cx="3771720" cy="2570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4726080" y="4876920"/>
            <a:ext cx="3932280" cy="95256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7" name="TextBox 9"/>
          <p:cNvSpPr/>
          <p:nvPr/>
        </p:nvSpPr>
        <p:spPr>
          <a:xfrm>
            <a:off x="4992480" y="4051440"/>
            <a:ext cx="349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on the indicator button on the housing 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oid allowing the button to contact bolt h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Crankshaft Hub Pilot or Adapter Diameter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easure using an inside micrometer or a telescoping gauge and outside microme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ake measurements in at least two loc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4994280" y="1708200"/>
            <a:ext cx="3486240" cy="2390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1081080" y="4309920"/>
            <a:ext cx="3913200" cy="124776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4" name="TextBox 9"/>
          <p:cNvSpPr/>
          <p:nvPr/>
        </p:nvSpPr>
        <p:spPr>
          <a:xfrm>
            <a:off x="5658120" y="4032360"/>
            <a:ext cx="24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 gauge in bore’s center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Crankshaft Hub Pilot or Adapter Face Squareness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stall the hub adapter if used – torque bolts to engine manufacturer’s specifica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ount the dial indicator base on the flywheel hous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osition the dial indicator button on the face of the hub pilot or adapt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Zero the dial indicat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tate the crankshaft one complete revolu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 Total Indicated Runout (TI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4854600" y="1627200"/>
            <a:ext cx="3714840" cy="2562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4743360" y="4902120"/>
            <a:ext cx="3934080" cy="92232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1" name="TextBox 9"/>
          <p:cNvSpPr/>
          <p:nvPr/>
        </p:nvSpPr>
        <p:spPr>
          <a:xfrm>
            <a:off x="5523840" y="4140360"/>
            <a:ext cx="245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rque crankshaft bolts to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ufacturer’s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Crankshaft Hub Pilot or Adapter Concentricity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stall the hub adapter if used – torque bolts to engine manufacturer’s specifica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ount the dial indicator base on the flywheel hous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osition the dial indicator button on the inside bore of the hub pilot or adapt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Zero the dial indicat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tate the crankshaft one complete revolu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 Total Indicated Runout (TI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5108400" y="1719360"/>
            <a:ext cx="3400560" cy="2219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4803840" y="4746600"/>
            <a:ext cx="3962160" cy="129528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8" name="TextBox 9"/>
          <p:cNvSpPr/>
          <p:nvPr/>
        </p:nvSpPr>
        <p:spPr>
          <a:xfrm>
            <a:off x="5569560" y="3900600"/>
            <a:ext cx="256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on the indicator button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on on the inside of the b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4-02T17:40:46Z</dcterms:modified>
  <cp:revision>345</cp:revision>
  <dc:subject/>
  <dc:title>Introduction</dc:title>
</cp:coreProperties>
</file>