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D136-7A02-4E9C-8143-D4FC51F10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7603-46DA-4FC7-AC6D-157317C40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54A1-7497-4FA0-9EB3-B09EFBA7D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16BF-11B4-4F63-97C9-791881ABD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14F8-13B9-4797-9E9E-141B95690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7A11-3609-45CF-88E2-F5B79CED6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BE61-C383-42D2-9A4B-44EA8D406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8808-7777-4885-900F-8B80B858E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02F8-37B3-425E-A7E0-2AE8999DD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64E1-2053-44C0-989C-6075327D3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089E-3E6D-4CA7-8314-6F40384BF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1DB0-F7A9-408A-9863-C242B623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61D9-3430-4F27-9E6C-EBB17674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FB2-D5C5-4C29-8823-7E4540A1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8486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2400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8486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2400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F99C-B847-4F8B-88DC-DBC912777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F4E9-045B-42A3-979E-A58BDF70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5FB2-18F0-4885-82AE-5EFFF75B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38A3-CE42-4C6B-8E75-4EFA5A28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9ACD-8DCC-4BED-82CC-D3A67292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2850-8F95-4DB7-87B0-EAF2C8D2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686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FAEE-8570-4D25-A92B-C1B36B09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C725-3192-465D-9314-AB01BCF9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ACE-38B3-4441-BF10-DB8D2053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4DF8-20A7-48DA-9323-5CC39538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05A2-E6F4-4D5D-A476-EC5C0394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47A7-CC00-4F4D-B434-D49F7995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71AE-87A4-495B-B395-9AB4C575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486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18486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32400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1238-5D4F-43EC-8C20-C6DCE5AF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4A0E-7CDB-4579-8A21-77B5BD7C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CD15-90D2-4A2A-9B11-20E09934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DABF-D9D0-4426-BD29-9DD4D54C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686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4CD0-7831-436C-B708-6F668BD4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61E3-4891-4D15-AD74-6894B4E9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5DC1-B97A-4E52-A350-A438F9F1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AF96-83F5-4E4B-8E3B-8EE64BE0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A25B-008B-48D7-8A5D-1A6E2858916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2971800" y="76320"/>
            <a:ext cx="617220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Product Familiar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40404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82A1-AC24-42F7-9BAD-0169E70F31B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2971800" y="76320"/>
            <a:ext cx="617220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Product Famili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Introduction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600200"/>
            <a:ext cx="336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per driveline phasing and angularity minimize potential vibration and transmission dam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riveline measurements are entered into the Allison Installation Design Calculations software program for analys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rivelin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3559320" y="1230480"/>
            <a:ext cx="5548320" cy="4309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swfButton.png"/>
          <p:cNvPicPr/>
          <p:nvPr/>
        </p:nvPicPr>
        <p:blipFill>
          <a:blip r:embed="rId3"/>
          <a:stretch/>
        </p:blipFill>
        <p:spPr>
          <a:xfrm>
            <a:off x="187812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swfButton.png"/>
          <p:cNvPicPr/>
          <p:nvPr/>
        </p:nvPicPr>
        <p:blipFill>
          <a:blip r:embed="rId4"/>
          <a:stretch/>
        </p:blipFill>
        <p:spPr>
          <a:xfrm>
            <a:off x="31510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swfButton.png"/>
          <p:cNvPicPr/>
          <p:nvPr/>
        </p:nvPicPr>
        <p:blipFill>
          <a:blip r:embed="rId5"/>
          <a:stretch/>
        </p:blipFill>
        <p:spPr>
          <a:xfrm>
            <a:off x="446256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swfButton.png"/>
          <p:cNvPicPr/>
          <p:nvPr/>
        </p:nvPicPr>
        <p:blipFill>
          <a:blip r:embed="rId6"/>
          <a:stretch/>
        </p:blipFill>
        <p:spPr>
          <a:xfrm>
            <a:off x="578016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5303520" y="142560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4816440" y="2090880"/>
            <a:ext cx="158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rizontal S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6270840" y="3711600"/>
            <a:ext cx="23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rtical Slope and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4113360" y="457524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a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Installation Design Calculations Software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nter measurements and readings in the Allison Installation Design Calculations Softwa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 software and support are available on the Allison Extran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ree key results must be within limit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orsional Accele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rive U-Joint Inertial Accele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ast U-Joint Inertial Accele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 U-joint angles at each end of the driveline should be equal or nearly equ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rivelin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4484520" y="1760400"/>
            <a:ext cx="4562640" cy="3838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swfButton.png"/>
          <p:cNvPicPr/>
          <p:nvPr/>
        </p:nvPicPr>
        <p:blipFill>
          <a:blip r:embed="rId2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swfButton.png"/>
          <p:cNvPicPr/>
          <p:nvPr/>
        </p:nvPicPr>
        <p:blipFill>
          <a:blip r:embed="rId3"/>
          <a:stretch/>
        </p:blipFill>
        <p:spPr>
          <a:xfrm>
            <a:off x="187812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swfButton.png"/>
          <p:cNvPicPr/>
          <p:nvPr/>
        </p:nvPicPr>
        <p:blipFill>
          <a:blip r:embed="rId4"/>
          <a:stretch/>
        </p:blipFill>
        <p:spPr>
          <a:xfrm>
            <a:off x="3151080" y="6172200"/>
            <a:ext cx="1333440" cy="285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Driveline Phasing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373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kes should typically be installed parallel to each oth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me vehicles are designed with yokes out of phas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erify driveline design with OEM prior to changing phas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hasing can be changed at the slip joi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rivelin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4376880" y="1517760"/>
            <a:ext cx="4538520" cy="4163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8" name="TextBox 10"/>
          <p:cNvSpPr/>
          <p:nvPr/>
        </p:nvSpPr>
        <p:spPr>
          <a:xfrm>
            <a:off x="6048360" y="5824440"/>
            <a:ext cx="1282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ypical slip joi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5"/>
          <p:cNvSpPr/>
          <p:nvPr/>
        </p:nvSpPr>
        <p:spPr>
          <a:xfrm flipH="1">
            <a:off x="6248160" y="4778280"/>
            <a:ext cx="398520" cy="1055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3" descr="swfButton.png"/>
          <p:cNvPicPr/>
          <p:nvPr/>
        </p:nvPicPr>
        <p:blipFill>
          <a:blip r:embed="rId2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swfButton.png"/>
          <p:cNvPicPr/>
          <p:nvPr/>
        </p:nvPicPr>
        <p:blipFill>
          <a:blip r:embed="rId3"/>
          <a:stretch/>
        </p:blipFill>
        <p:spPr>
          <a:xfrm>
            <a:off x="187812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swfButton.png"/>
          <p:cNvPicPr/>
          <p:nvPr/>
        </p:nvPicPr>
        <p:blipFill>
          <a:blip r:embed="rId4"/>
          <a:stretch/>
        </p:blipFill>
        <p:spPr>
          <a:xfrm>
            <a:off x="3151080" y="6172200"/>
            <a:ext cx="1333440" cy="285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Axle Vertical Slope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ith the driveshaft removed, place an inclinometer against the ax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cord the reading when the inclinometer stabiliz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rivelin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211480" y="3168720"/>
            <a:ext cx="6692760" cy="2950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17" name="Picture 13" descr="swfButton.png"/>
          <p:cNvPicPr/>
          <p:nvPr/>
        </p:nvPicPr>
        <p:blipFill>
          <a:blip r:embed="rId2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Transmission Vertical Slope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lace an inclinometer on the bottom of the transmis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 a smooth, flat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me transmission oil pans are not flat or parallel to the ground (including Allison 1000 &amp; 2000 Product Families transmissions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n these models, place the inclinometer on the main housing where the oil pan mounts or place the inclinometer on the machined face of the output flange or yok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cord the reading when the inclinometer stabiliz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rivelin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4827600" y="1514520"/>
            <a:ext cx="3973680" cy="3828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Axle &amp; Transmission Horizontal Slope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ypically applies to V-drive transmissions which are not parallel to the frame rai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 most applications a value of “0” is recorded for both measurements to indicate that the transmission and axle are parallel to the frame rai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rivelin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4495680" y="2290680"/>
            <a:ext cx="4200480" cy="2667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Front and Rear Propshaft Slope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lace an inclinometer on the front and rear propshaf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 a smooth, flat surfac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cord each reading when the inclinometer stabiliz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heck each propshaft when the vehicle uses a multiple-piece driveli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rivelin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4968720" y="1790640"/>
            <a:ext cx="3581640" cy="3505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Propshaft Length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easure between the centers of each U-joi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cord each measuremen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easure each propshaft when the vehicle uses a multiple-piece driveli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rivelin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2179800" y="3917880"/>
            <a:ext cx="6221160" cy="210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U-Joint Offset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600200"/>
            <a:ext cx="33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easure each propshaft’s position between the vehicle’s frame rai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e a plumb bob to the frame rail and use it as a reference poi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easure from plumb bob string to the center of each U-joi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cord each measure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rivelin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3801960" y="2111400"/>
            <a:ext cx="5135760" cy="2395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Maximum Driveline Speed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ximum driveline speed is maximum engine rpm divided by the highest transmission gear rat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ference the engine data tag or engine manufacturer for max engine spe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rivelin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swfButton.png"/>
          <p:cNvPicPr/>
          <p:nvPr/>
        </p:nvPicPr>
        <p:blipFill>
          <a:blip r:embed="rId2"/>
          <a:stretch/>
        </p:blipFill>
        <p:spPr>
          <a:xfrm>
            <a:off x="187812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3"/>
          <a:stretch/>
        </p:blipFill>
        <p:spPr>
          <a:xfrm>
            <a:off x="2403360" y="3240000"/>
            <a:ext cx="6693120" cy="2938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Scott Scull</cp:lastModifiedBy>
  <dcterms:modified xsi:type="dcterms:W3CDTF">2013-04-02T17:42:55Z</dcterms:modified>
  <cp:revision>347</cp:revision>
  <dc:subject/>
  <dc:title>Introduction</dc:title>
</cp:coreProperties>
</file>