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AFB-CC36-4977-A399-2724B93B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2E9-8BE7-4EAC-8BBB-E8C6EF445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775-2C1C-4BA1-9A4A-BBB3F987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EB3-41E8-4DBE-9FC4-6F784AC2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6C39-76FA-4820-B599-9109385E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439E-373E-4360-96B3-F601F2F3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2419-598E-45FB-A2DD-6BE55AA86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DFBA-280F-48A6-BC6D-1BF3B9A0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065-1AA1-42C6-AA1E-7CFB4158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454-6327-47DF-8F51-DFA44DD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A35-2917-454A-9E7B-FD3CBE9C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BC0-97DB-4923-B718-D098F591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5D46-25B1-4EC7-8978-B4BA9BEA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446-8CF2-48F1-B529-9B09A781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84C0-AB27-43CE-A395-47B0B849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F003-4A3F-4F75-9CCF-D8CEEA5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BC06-6A62-4305-AAC2-03BA6673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D5F4-EB60-48A4-8BA2-D88BCAFF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8613-20E4-4156-A3A2-F98EC1D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8EA-2B51-4895-A7B8-21A1FB9A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A3FA-26A7-4936-8FA6-B1294FFC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E792-FD8E-4D5E-BEB9-3FC4B486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774F-F76D-4AB9-BA1D-9B7A1651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08A-4A98-4F50-9E6B-1D216979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244-E1F8-4876-BD68-4BC4A5C9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886-E1C9-4281-82AA-7A1343C0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D46-230D-4797-98CF-C0F6A837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BD5-07B8-4DBB-BEFD-88952A3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6DD-EAEE-4D44-89EC-FD769DC8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A34-5B4F-4AFF-A1A6-524676FC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FA4-9D0A-452D-A2A0-7903DFF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F88-FAD4-48C3-871F-5BE38EAC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71D1-4B6F-4E30-8DA8-16612FFDCD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AD37-E021-4EF2-9532-002CAE0E82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resources/tc10_PreventiveMaintenance/ppts/ResourceGraphic-4a.ppt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38894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variety of preventive maintenance reference resources are available includ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chanic’s T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or’s Man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 Information Letters (SILs), Service Tips and Tech T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Allison Transmission web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these resources f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mmended fluid and filter change interv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mmended fluid typ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ill capac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duct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updat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481640" y="939960"/>
            <a:ext cx="4744800" cy="551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spe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pect the transmission, mounting components, the driveline and related vehicle systems during preventive mainten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 for loose mounting hardware and damaged compon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sure wiring harnesses are properly secured, undamaged and connectors are in pla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sure cooler lines or hoses are properly routed and secured; verify the lines and fittings are not leak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 for fluid leaks especially at seal and gasket are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448160" y="833400"/>
            <a:ext cx="4651560" cy="323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637160" y="3618000"/>
            <a:ext cx="4273560" cy="302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swfButton.png"/>
          <p:cNvPicPr/>
          <p:nvPr/>
        </p:nvPicPr>
        <p:blipFill>
          <a:blip r:embed="rId3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swfButton.png"/>
          <p:cNvPicPr/>
          <p:nvPr/>
        </p:nvPicPr>
        <p:blipFill>
          <a:blip r:embed="rId1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ain Fluid &amp; Filter Chang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28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rain the fl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arm the engine to normal operating temperature before draining the flui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move the drain plug from the transmission oil pa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amine the drained fluid for evidence of debris or contamin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and lube a new drain plug seal, then install and torque the drain plu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309840" y="1538280"/>
            <a:ext cx="5888160" cy="4726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swfButton.png"/>
          <p:cNvPicPr/>
          <p:nvPr/>
        </p:nvPicPr>
        <p:blipFill>
          <a:blip r:embed="rId3"/>
          <a:stretch/>
        </p:blipFill>
        <p:spPr>
          <a:xfrm>
            <a:off x="177948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ain Fluid &amp; Filter Change</a:t>
            </a:r>
            <a:r>
              <a:rPr b="1" lang="en-US" sz="1200" spc="-1" strike="noStrike">
                <a:solidFill>
                  <a:srgbClr val="bfbfbf"/>
                </a:solidFill>
                <a:latin typeface="Arial"/>
                <a:ea typeface="Arial"/>
              </a:rPr>
              <a:t> (cont’d)</a:t>
            </a:r>
            <a:endParaRPr b="0" lang="en-US" sz="12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the lube fil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ove the cooler return filter assembly co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ull the filter from the hous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ove the cover O-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14760" y="1324080"/>
            <a:ext cx="4618080" cy="5492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swfButton.png"/>
          <p:cNvPicPr/>
          <p:nvPr/>
        </p:nvPicPr>
        <p:blipFill>
          <a:blip r:embed="rId2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swfButton.png"/>
          <p:cNvPicPr/>
          <p:nvPr/>
        </p:nvPicPr>
        <p:blipFill>
          <a:blip r:embed="rId3"/>
          <a:stretch/>
        </p:blipFill>
        <p:spPr>
          <a:xfrm>
            <a:off x="177948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ain Fluid &amp; Filter Change</a:t>
            </a:r>
            <a:r>
              <a:rPr b="1" lang="en-US" sz="1200" spc="-1" strike="noStrike">
                <a:solidFill>
                  <a:srgbClr val="bfbfbf"/>
                </a:solidFill>
                <a:latin typeface="Arial"/>
                <a:ea typeface="Arial"/>
              </a:rPr>
              <a:t> (cont’d)</a:t>
            </a:r>
            <a:endParaRPr b="0" lang="en-US" sz="12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all the lube fil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and lube the cover O-r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ube the filter O-r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all the filter, inserting it into the assembly and over the pilot inside the canister hou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and torque the cooler return filter assembly cov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747960" y="1346040"/>
            <a:ext cx="5326200" cy="523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wfButton.png"/>
          <p:cNvPicPr/>
          <p:nvPr/>
        </p:nvPicPr>
        <p:blipFill>
          <a:blip r:embed="rId2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swfButton.png"/>
          <p:cNvPicPr/>
          <p:nvPr/>
        </p:nvPicPr>
        <p:blipFill>
          <a:blip r:embed="rId3"/>
          <a:stretch/>
        </p:blipFill>
        <p:spPr>
          <a:xfrm>
            <a:off x="177948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uid Refill &amp; Check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ill the transmission with fl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erence the appropriate Allison publication for refill capacities and approved fluid ty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 the engine, allow the fluid to warm, then check the level using the Oil Level Sens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 or drain fluid as need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rate the vehicle, check for fluid leaks and re-check the fluid lev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340160" y="768240"/>
            <a:ext cx="4587840" cy="5031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267080" y="5683320"/>
            <a:ext cx="486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46c0a"/>
                </a:solidFill>
                <a:latin typeface="Arial"/>
              </a:rPr>
              <a:t>Transmission fluid cools and lubricates the transmission and is critical to proper transmission operation and long transmission lif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9" descr="swfButton.png"/>
          <p:cNvPicPr/>
          <p:nvPr/>
        </p:nvPicPr>
        <p:blipFill>
          <a:blip r:embed="rId2"/>
          <a:stretch/>
        </p:blipFill>
        <p:spPr>
          <a:xfrm>
            <a:off x="305424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swfButto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4240" y="6178680"/>
            <a:ext cx="1333440" cy="28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wfButton.png"/>
          <p:cNvPicPr/>
          <p:nvPr/>
        </p:nvPicPr>
        <p:blipFill>
          <a:blip r:embed="rId5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swfButton.png"/>
          <p:cNvPicPr/>
          <p:nvPr/>
        </p:nvPicPr>
        <p:blipFill>
          <a:blip r:embed="rId6"/>
          <a:stretch/>
        </p:blipFill>
        <p:spPr>
          <a:xfrm>
            <a:off x="178920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Resetting Prognostics Indicator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337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enabled, prognostics must be reset after performing the fluid and filter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Oil Life Monitor and Filter Life Monitor can be reset manually using the vehicle shift sele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lison DOC® can also be used to reset prognosti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927600" y="1473120"/>
            <a:ext cx="5159160" cy="4768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swfButton.png"/>
          <p:cNvPicPr/>
          <p:nvPr/>
        </p:nvPicPr>
        <p:blipFill>
          <a:blip r:embed="rId2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wfButton.png"/>
          <p:cNvPicPr/>
          <p:nvPr/>
        </p:nvPicPr>
        <p:blipFill>
          <a:blip r:embed="rId3"/>
          <a:stretch/>
        </p:blipFill>
        <p:spPr>
          <a:xfrm>
            <a:off x="178920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31:16Z</dcterms:modified>
  <cp:revision>483</cp:revision>
  <dc:subject/>
  <dc:title>Introduction</dc:title>
</cp:coreProperties>
</file>