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F99-4DFD-4556-A66A-D06BFAB5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1E4-6FA3-400B-A086-C0E30D22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4F99-8DE8-4C66-A013-C02463391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6AFE-F3F5-49CD-BE15-E1143714FE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A988-0B7A-4D5E-9002-50A0D4CB7D6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DAE9-6F72-4E3D-926D-F8762D5B06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E8E7-55D9-4BA2-9355-25DD7946E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DD4D-F579-4241-B5AC-5095360419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3CE3-9160-491E-B845-4D6DAA314E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C7BB-6B04-46D9-B90C-68E29284F2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2322-63D3-490B-B6D7-9258CE0324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C29D-0591-4116-84C9-F54475E16F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FD8A-962A-4651-A9A9-8C0BE478C1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722B-B3E8-4DFC-B469-E533306A82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431-DF24-48E0-B9DC-7AF135FD045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B45-EFC6-448C-9E80-C0827F04C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990-151D-48EB-A3A9-BA4CD12D787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CD1-B574-41A5-89CF-E2C3910A38C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C1A-54B7-40BA-8076-6BC710AD094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8C40-1FCC-4C2A-ABFD-6B8A08D185D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29B-2687-4598-A010-DE02078524D7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AE0-86B6-420B-A0A2-F9E605ABD7C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400-012E-4213-BFB1-DE78CDA1E69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B529-08CB-44F7-AE0B-F39CF609666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338-699B-4163-833D-1A364DA49FD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9BA-8CDB-49B4-9427-90A5764F408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A9FC-553B-40C0-B8A5-ABDE1F0509E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Custom Data Monitor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44600" y="1346040"/>
            <a:ext cx="797544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1:12Z</dcterms:modified>
  <cp:revision>379</cp:revision>
  <dc:subject/>
  <dc:title>PowerPoint Presentation</dc:title>
</cp:coreProperties>
</file>