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1FF-3383-483D-96D2-DC764162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3C5-63B0-469A-8429-BDB8D64E8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2644-F43B-4E1E-B2AD-9BD5A3761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CEDB-E728-4BA9-AF95-215D70BEFF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AA0F-D28C-41DB-9CB8-94D1BD5E1D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C6D6-AC00-460B-A319-F804F3668E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0FB9-18CF-4FE6-996E-27F96343D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B0A4-94DD-42CD-8580-1D7D60AE38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9507-2315-44E1-A4B1-8C31A5728A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8CE6-43A3-4407-BF5A-34A72FCD33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42AF-5D90-4989-9592-CA32AAEAAC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B519-BC15-4747-85C1-1C8ABCEA43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4C68-700F-4A06-BBDC-AD5D17C7B6D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7F01-D9C1-44CA-A607-AB36B7936B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824D-1BF9-480C-887B-499FF228917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5649-A494-4A9B-9BDD-2728E870E0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4E87-CF90-42F7-8256-4DCF0119EF8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4BE-1694-4538-AA94-EBFF9962C257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A1F8-B88C-47BC-AB0B-4A2AA2EDBC1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1F8A-4F43-4BFC-9CC1-94054897AD0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D3B-EB1A-4C0F-B26A-633859F3A51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09B-50E9-4842-912A-D78815908A5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0AC5-4673-45A5-959F-E8BB1E687BC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57F8-403F-4B78-B1F8-98212A9A2DA2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0841-40C4-4025-9991-0B78C385B02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6827-0086-4592-A2C0-F8460BDF2DE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062-588B-4A6D-8364-65B27D67E75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Reset Adap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57200"/>
            <a:ext cx="8001000" cy="466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3:17Z</dcterms:modified>
  <cp:revision>383</cp:revision>
  <dc:subject/>
  <dc:title>PowerPoint Presentation</dc:title>
</cp:coreProperties>
</file>