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DD94-E410-4EED-BD5E-F6225266C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2000-23ED-4E2A-ABFE-A0FBEF578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17DD4-29CA-4767-A43A-CED3F619E1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051C5-FEF8-4549-844D-BDEBD52408F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F8440-1947-4739-8728-0D342BBB810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C1E04-BC9A-4CE2-9863-0B2DB1E2A61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6A17C-B4C3-4DD1-81A8-99800155D3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0C221-15FF-4D0C-87CC-2DB9BACFB82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594DE-628B-49A7-98D6-0892C5E2FBC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BFA9E-AD90-4BA5-A84E-247BC8FECB4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38388-899F-4789-8BBC-0FF5DE2C858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C143F-E0EB-49A9-BEAE-6708A8EC665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CD212-8BF9-4027-A033-A1D676E43D2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C3933-5A84-4CD8-A6DC-4DBAB994103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1037-D974-4860-B072-A7E8F765C5A9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C15D-537A-4243-818F-0C3D579932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8937-4AB9-4366-802A-20FDE61E4EC3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F14B-BD1F-4558-BBC7-8EE7F8E375C8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03D4-ACA0-4EE1-965E-D671B797B7BF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7127-2027-40C0-A40C-5BD2B3ECC448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F139-C4BD-4EBC-A343-B34D1EF16C11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DCFE-E4D2-454F-BE68-DFF55CEA1BCB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E157-97A7-49F3-95F5-B580FCC1F0BF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DE69-D9B8-46E6-AB78-9DEF0072A98C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B2A9-053F-4681-BB15-EC0802540F1E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51F49-7D8F-4D2E-801C-68128682A72A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10F8-D527-40EC-94E5-F0F8E056CC26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Box 3"/>
          <p:cNvSpPr/>
          <p:nvPr/>
        </p:nvSpPr>
        <p:spPr>
          <a:xfrm>
            <a:off x="3098880" y="-30240"/>
            <a:ext cx="6045120" cy="764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 Black"/>
                <a:ea typeface="Arial"/>
              </a:rPr>
              <a:t>Allison DOC® - H40/50 E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 Black"/>
                <a:ea typeface="Arial"/>
              </a:rPr>
              <a:t>Calibration Information Scre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1" descr=""/>
          <p:cNvPicPr/>
          <p:nvPr/>
        </p:nvPicPr>
        <p:blipFill>
          <a:blip r:embed="rId1"/>
          <a:stretch/>
        </p:blipFill>
        <p:spPr>
          <a:xfrm>
            <a:off x="431640" y="1346040"/>
            <a:ext cx="8001000" cy="4687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21:28:26Z</dcterms:created>
  <dc:creator>Mike Garrard</dc:creator>
  <dc:description/>
  <dc:language>en-US</dc:language>
  <cp:lastModifiedBy>Scott Scull</cp:lastModifiedBy>
  <dcterms:modified xsi:type="dcterms:W3CDTF">2012-08-09T13:31:42Z</dcterms:modified>
  <cp:revision>380</cp:revision>
  <dc:subject/>
  <dc:title>PowerPoint Presentation</dc:title>
</cp:coreProperties>
</file>