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5A4F-25B3-4090-A427-F849B27B3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C8E7-58BA-438F-A3C7-F0F420E05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5C1E-A299-4043-89C4-2AA9C3FBA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7B38-0EC6-4AC4-91CB-06809C73E1A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B5E4-6023-4EC6-83ED-DAD2526E779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6443-12EA-4118-9D9F-13362E7ED3B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B5CA-F6EF-4F13-BDB2-D3DD383EC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EB8E-1135-438C-92B3-4C9FF3DC8A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BF6B-4D58-420B-AF10-DDE3A890FC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6A3D-DEBB-48E8-B91A-F424D22972D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F380-1962-4930-B450-81EB310881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8E2B-6056-4E18-9FB5-3E44816B49D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8A2F-EB77-4C98-9A49-62CCD8702F6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E6C8-A9B6-46E1-BCFE-0C39701EF58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DC6A-DE95-4747-B5EE-82A66F2650F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E94F-BC35-4F05-A5CF-1DEB2F26B3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4852-D434-4B6E-B2F5-E3FF9456C824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2956-3EF6-454E-88B2-A3D0085C29D6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EE95-8AC1-4238-B4FC-78BA7E7E53E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CEF8-1F65-4F42-A2AB-466C165BE95D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65C7-F0E7-48D3-BDD1-EE2C82AC4167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C421-7F82-4398-976D-6C8E20B39BD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2C78-AB85-4799-9CB4-5D83D0BA1E7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AF73-F012-4B12-9A2B-07589F0D6AB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1510-A608-4FDF-9CB6-2CC721BF8586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831A-03A2-4BD3-B66F-7F0CB6298079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CF8B-AA3C-4901-B3E6-27CC1D2C4BCE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3098880" y="-30240"/>
            <a:ext cx="604512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Allison DOC® - H40/50 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  <a:ea typeface="Arial"/>
              </a:rPr>
              <a:t>DTC &amp; General Information Scr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tretch/>
        </p:blipFill>
        <p:spPr>
          <a:xfrm>
            <a:off x="431640" y="1346040"/>
            <a:ext cx="8001000" cy="4687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1:59:32Z</dcterms:modified>
  <cp:revision>375</cp:revision>
  <dc:subject/>
  <dc:title>PowerPoint Presentation</dc:title>
</cp:coreProperties>
</file>