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EDAF-DFF1-4FD0-A4A3-2A7E25C2E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E66F-E175-4124-B939-0C6DAA2A0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0978A-6F01-4409-87B9-7A5B87137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91A8D-5BFC-47D6-A9E5-BC83610E937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379A4-CDB7-4825-A8A2-175BE162093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F2EF8-DCB0-4983-AC5F-7F9306F6496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A71D-CD53-463A-8D51-CC02EDFE4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EB2D4-5716-4CBC-90E5-72D7E56188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FC877-DBA1-42A2-932A-C022E8623FB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E337-6DDB-4E23-BFF8-FBD515D3769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B137D-010B-4886-A6D6-47E4ECE1DC4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A82C-536A-4B8E-8F55-0FACF6A0A97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D0C5-E11B-4F0A-93B9-EC440CC513A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50466-95DD-4FB0-87F4-62ACE3BFD8C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6CB5-8157-428B-ADC5-A78E48F304D8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45E8-FCEC-47B0-9EE8-EBEADF4D26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035B-9B03-4376-8054-6EA740CE6341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C833-5BA6-4AB9-B270-8CF509A54E89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1A60-F71B-4B28-87D9-26530E15677C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B7A2-0A26-4521-A7E2-9ECCA7DCE00F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314C-1481-4AE8-85ED-EA04D7391EC7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E470-FCF1-4894-8060-6446C3343430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D25B-8446-4A2F-A294-65571E38AD2B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9886-F2D5-46ED-86DF-DE428630D1E8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5B8A-3035-4E07-9F4B-7C3EA5494D32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D1CF-D565-4DA1-8A08-19618326D3B1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F5FC-6585-44FE-94B3-8BE41DF58821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Box 3"/>
          <p:cNvSpPr/>
          <p:nvPr/>
        </p:nvSpPr>
        <p:spPr>
          <a:xfrm>
            <a:off x="3098880" y="-30240"/>
            <a:ext cx="604512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  <a:ea typeface="Arial"/>
              </a:rPr>
              <a:t>Allison DOC® - H40/50 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  <a:ea typeface="Arial"/>
              </a:rPr>
              <a:t>Motor Spin Te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" descr=""/>
          <p:cNvPicPr/>
          <p:nvPr/>
        </p:nvPicPr>
        <p:blipFill>
          <a:blip r:embed="rId1"/>
          <a:stretch/>
        </p:blipFill>
        <p:spPr>
          <a:xfrm>
            <a:off x="431640" y="1357200"/>
            <a:ext cx="8001000" cy="4665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21:28:26Z</dcterms:created>
  <dc:creator>Mike Garrard</dc:creator>
  <dc:description/>
  <dc:language>en-US</dc:language>
  <cp:lastModifiedBy>Scott Scull</cp:lastModifiedBy>
  <dcterms:modified xsi:type="dcterms:W3CDTF">2012-08-09T13:33:50Z</dcterms:modified>
  <cp:revision>384</cp:revision>
  <dc:subject/>
  <dc:title>PowerPoint Presentation</dc:title>
</cp:coreProperties>
</file>