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E567-7D1D-4AE8-BD18-DA8427880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4EAA-7FE8-4AD8-9C59-EE3C4D64B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7C4AE-267D-413C-B17F-32CC81BC9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A2F0-C4D2-41CE-833B-D3B50D42CED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FB7B1-6367-4911-A359-FF56F5BD412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FC80-DA92-4E97-8DF4-E0A222CE7B8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376C3-597C-4551-97BC-D08818001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95FD9-ECC6-4BE7-8E59-C8611237F1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9EDF8-4E73-4AD7-A0D9-CC33EF12688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A301-E067-4F37-8D12-6A95273427A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C3332-A180-4D33-AC10-058C6229474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A9B1-7E51-4A29-91FC-3BC990DA118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0A481-CADA-4701-9356-1161C863239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B200-B240-4002-B3E3-D7A017A8176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A53F-DDAB-4CB4-A764-14825A20A3DA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6D04-A1FA-495E-888A-B4FB24AA1B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B37A-C3FB-4192-96AF-6BF23ECEA56E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1B18-3964-4156-BCF2-83DA8BBE5B90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8003-19D0-4056-A0AC-60D78B6B8A1D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5D4F-7564-46FD-A7E1-841738C22DCF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A5B8-3FA9-488D-B2C9-F4474746BCB8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81C9-EB14-44B5-B968-879F01BC625E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13C3-E900-4778-96A6-71A7694AABB8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2BBB-76A6-40AF-943C-C436769C87AD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387E-D991-4BC0-8A01-CAAED25CBDEA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1E58-5072-49E0-B9BD-538B9382F4FD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4627-57B2-4173-B540-684413CDBAD2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Box 3"/>
          <p:cNvSpPr/>
          <p:nvPr/>
        </p:nvSpPr>
        <p:spPr>
          <a:xfrm>
            <a:off x="3098880" y="-30240"/>
            <a:ext cx="604512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  <a:ea typeface="Arial"/>
              </a:rPr>
              <a:t>Allison DOC® - H40/50 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  <a:ea typeface="Arial"/>
              </a:rPr>
              <a:t>Re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1" descr=""/>
          <p:cNvPicPr/>
          <p:nvPr/>
        </p:nvPicPr>
        <p:blipFill>
          <a:blip r:embed="rId1"/>
          <a:stretch/>
        </p:blipFill>
        <p:spPr>
          <a:xfrm>
            <a:off x="431640" y="1357200"/>
            <a:ext cx="8001000" cy="4665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21:28:26Z</dcterms:created>
  <dc:creator>Mike Garrard</dc:creator>
  <dc:description/>
  <dc:language>en-US</dc:language>
  <cp:lastModifiedBy>Scott Scull</cp:lastModifiedBy>
  <dcterms:modified xsi:type="dcterms:W3CDTF">2012-08-09T13:34:19Z</dcterms:modified>
  <cp:revision>385</cp:revision>
  <dc:subject/>
  <dc:title>PowerPoint Presentation</dc:title>
</cp:coreProperties>
</file>