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09B4-C66B-4190-A3F0-5F2BDB40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35C2-B06B-4C53-9CE0-065A3615B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6BF5-49EF-481B-A3F0-A125CB530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D77B-2535-4B85-B015-0C2E50503F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84A7-46FC-4EE8-BD5D-A976AC0A4A7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E67C-D693-44C0-9958-3E69BCF11D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2418-758C-41B6-8FDF-5E47A5EA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FF9F-B91A-4CBC-8284-CAA5B8285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92CA-2B75-47DF-830C-60ADD924E1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1CC5-DE56-4FBB-B1C5-6FDBC8EF0D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044F-26EB-441C-B880-66DC303790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B6F6-8792-4542-B352-6C26BFB1EF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06D2-3BCD-42E0-9BF8-C90A54023D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E90A-0E06-4087-BDBF-32BB0EC914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0BA-48CA-4DF3-BB7F-01EC4AD5063B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F048-1F18-4BCF-8C81-FFF40F5BD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32C-328E-466E-A540-6B261974018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465-FEE7-4562-BB91-AB045E2C900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E70-CDF7-4C47-8CF7-7B6DEDFA02F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041B-87F4-4055-9C09-6F2C9C9C437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F7AD-C250-4A87-ACFE-4300526ECC5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CBE3-53C7-4FF8-85D8-E6164867DD2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F74-7CE1-4247-AD39-E92B0E527A5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95B-856D-4DD2-A0F3-33AF8605488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E1A-D6DF-4654-9DCA-E4069AFE94A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1FB-A9B1-4668-8FAA-0A1225B685C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4D78-40C4-4E74-8EAD-848AC08F040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Data Monitor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46040"/>
            <a:ext cx="800100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30:17Z</dcterms:modified>
  <cp:revision>377</cp:revision>
  <dc:subject/>
  <dc:title>PowerPoint Presentation</dc:title>
</cp:coreProperties>
</file>