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D725-F6F6-4475-A247-ABFEF23A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84FF-5A7B-4394-A168-6B851F3A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3EEC-8AE8-4568-9DC6-D0BA9B22D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30F9-0BF2-4388-821A-276F8AB612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61CE-C1FC-4C0A-9F8F-A15E57AC6AF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A01D-635D-4E21-AEC7-869C83827EA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E38C-0FDF-4D6F-9865-808138DAB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5DFD-E802-45B5-888A-78183E2C35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76BF-0B53-463A-976C-D8A30B0009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FEA5-10E6-432A-BD2A-775A5B449D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2AEA-DB8A-41DB-85F6-0DBC53F29D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36A2-D8C1-4D47-9FCD-59AE902719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2B09-E7C4-42CC-8287-45B7ECAA70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4D41-69BB-415B-83FB-4761216814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50E-A2D5-4C9E-8B88-86439436AAB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F675-3028-4319-8D62-C2095DC5B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7D1-7431-454E-8F94-07C83F2CE44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BCB-BC6D-4908-B755-8BBA28F8B47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EF63-7BA0-4D9F-AC1E-986C0E9A089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15F-6BFA-49D6-8D8F-9DF3FC63E91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904-8E00-467C-923A-9AAC1ED7D50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C963-DEE2-4C21-9D93-77954620B1F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A1D-4C83-4833-8AAC-2758956E614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185-4BF3-4724-97C0-6A4A3E8D894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E553-7F56-420B-8377-9FB2DFB1FEB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3454-7932-4713-8B17-5FC65AC99D5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FF6-8D98-4CFC-9456-33ACEC59FF9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Clutch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57200"/>
            <a:ext cx="8001000" cy="466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48:13Z</dcterms:modified>
  <cp:revision>382</cp:revision>
  <dc:subject/>
  <dc:title>PowerPoint Presentation</dc:title>
</cp:coreProperties>
</file>