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4DCD-86EB-48D1-AE5A-18FA6D59F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9602-EDDC-44C9-B4FE-28EBE31A0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D810-ADD7-41F2-A85D-5F4557E39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D3A7-C333-450C-BF4F-9EE2D7D7516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7BD2-D304-47B6-A0FA-28E18063F6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1857-28E2-4DBA-A028-33012CC400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7F04-8020-436A-9249-CB36841E4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2F50-BC1D-4B41-8863-76C5B5E317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598A-AE5F-4E75-880E-6837AE6ED4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4293-B1FA-49E3-BEAB-391A20F0AC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8D87-4B7F-4DF4-A27B-FDDC9234EC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C0E7-C2AE-4A90-BDFE-4E69EF5DB6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B45A-44C4-4A8B-8700-CCA67864D20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583B-02E8-4E29-94D8-14F0ADCE9E7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67AF-004B-4062-9555-ADB739B258E2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661-7706-4DA0-A5BD-94B9FCA705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47E9-C219-4F00-8265-8271FF54E1E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1CE2-8BF6-4476-AD1A-0E65771E802D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9740-6768-428F-8869-C3E68EE1E77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62FF-7166-4D3A-AE10-1C55AFEDB55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E3FA-40D7-4398-AC47-9CA750A6807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D5A-C971-480D-85C8-CA3B93BBD5A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80D8-03F6-4015-98E9-D6D8A3E5190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14A-F872-4380-A0EE-AB4C2A6B8B3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7D3-AC1E-47F8-B06E-A203757E417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3A54-2B2F-4A0D-AC25-11EE3438185D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A335-3E97-4D4F-A640-356187BDB3E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Graphical View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46040"/>
            <a:ext cx="8001000" cy="4687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29:07Z</dcterms:modified>
  <cp:revision>376</cp:revision>
  <dc:subject/>
  <dc:title>PowerPoint Presentation</dc:title>
</cp:coreProperties>
</file>