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E4A3-3FB1-4A0F-B556-BF2104CB1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1E6D-5E7D-4A20-9742-E7C3809AD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FE23-D224-4121-BE0D-84A317E1A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AA91-6281-4270-897D-AEF6744ED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E1E5-AE94-4300-A93B-3F10DA7A0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E6D4-5F80-482F-8E37-9056712F9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0A05-F22C-427F-87B4-E6F849DA1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22B9-B953-4DDD-BB07-5D8A79289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2BAE-E8C9-4D02-BC09-B173A06C6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C8DD-19D3-4141-8C24-257160F4D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356-A14E-48B4-BAF1-B66B33D38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3D42-7D56-42EA-931E-4F0830ECF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A0A9-2F47-47E5-BE58-7ECAAE15E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8013-75C6-4464-AB07-395B3A83546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7EB1-5B30-405B-BDF3-72C882CE027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0826-D90A-404E-8D25-FF181B71C4F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D33A-EF6F-455B-92FD-5D0AB53B0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A06B-E9F1-492F-9EDA-4409513148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1F5A-E759-4BDE-A3BE-0225230218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2DB8-4172-4375-9262-7D89D093F4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78E8-F7A5-442F-AC98-50AADC92E0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EE52-8ACF-4E50-BEC6-5D455157E8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5646-959C-4B76-A495-94DD4F4C39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3BE8-B3F7-44AA-AD60-701233F0075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44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901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177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35FE-8DAA-4A54-883F-164EBD079A7D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D6EF-D1E5-413A-A6FF-B32BCBAA2F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642E-3763-423E-8448-505C4F54F4D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1DE9-E30F-4FC3-8AD0-DD6D18CFF86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6761-FFAC-4FA7-92DE-208C963870C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6646-E8B7-4533-A85C-883358C79396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3B05-28D5-4E1F-8DBA-437BADD68FD3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3E84-64CC-42BB-A5D2-C4977B6085C5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DC92-043A-4988-B0C1-21DBC168B080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D9ED-C7B1-4688-8AF6-55C03742E26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0469-1F29-43D2-AC6A-FBDEEFB61546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CEC9-91A4-43CA-87D1-45277568DAD8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035"/>
          <p:cNvSpPr/>
          <p:nvPr/>
        </p:nvSpPr>
        <p:spPr>
          <a:xfrm>
            <a:off x="762120" y="-14400"/>
            <a:ext cx="83818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E6A6-A564-4D68-A979-7296BF162B7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2844720" y="101520"/>
            <a:ext cx="6248520" cy="44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 Black"/>
              </a:rPr>
              <a:t>Allison DOC® Navigation – H 40/50 E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3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312"/>
              </a:spcBef>
              <a:buClr>
                <a:srgbClr val="307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esources/Allison_DOC_H4050EP/ppts/ResourceGraphic-01a.pp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resources/Allison_DOC_H4050EP/ppts/ResourceGraphic-02a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resources/Allison_DOC_H4050EP/ppts/ResourceGraphic-03a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resources/Allison_DOC_H4050EP/ppts/ResourceGraphic-04a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resources/Allison_DOC_H4050EP/ppts/ResourceGraphic-05a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resources/Allison_DOC_H4050EP/ppts/ResourceGraphic-06a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resources/Allison_DOC_H4050EP/ppts/ResourceGraphic-07a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resources/Allison_DOC_H4050EP/ppts/ResourceGraphic-08a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resources/Allison_DOC_H4050EP/ppts/ResourceGraphic-09a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680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TC and General Information Scree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3" name="Picture 13" descr="swfButto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17720" y="619128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295280"/>
            <a:ext cx="3276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s TCM/VCM information includ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Active and inactive DTCs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System ID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TCM ignition voltage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Oil level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Sump oil temperature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ESS temperature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ESS SPN/FMI information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CAN Error Frame information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3"/>
          <a:stretch/>
        </p:blipFill>
        <p:spPr>
          <a:xfrm>
            <a:off x="3809880" y="1523880"/>
            <a:ext cx="5202360" cy="3048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3" descr="swfButton.png"/>
          <p:cNvPicPr/>
          <p:nvPr/>
        </p:nvPicPr>
        <p:blipFill>
          <a:blip r:embed="rId4"/>
          <a:stretch/>
        </p:blipFill>
        <p:spPr>
          <a:xfrm>
            <a:off x="596880" y="619128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4680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tor Spin Tes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29492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s technicians to verify the motors spin when commanded and in the direction comman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Motor A or Motor B for tes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Popup window allows selected motor to be spun clockwise or counter-clockwise:</a:t>
            </a:r>
            <a:endParaRPr b="0" i="1" lang="en-US" sz="1600" spc="-1" strike="noStrike">
              <a:solidFill>
                <a:srgbClr val="33754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Data Monitor to view the rpm values for each motor during the te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Values will read negative during a counter-clockwise test.</a:t>
            </a:r>
            <a:endParaRPr b="0" i="1" lang="en-US" sz="1600" spc="-1" strike="noStrike">
              <a:solidFill>
                <a:srgbClr val="337549"/>
              </a:solidFill>
              <a:latin typeface="Arial"/>
            </a:endParaRPr>
          </a:p>
        </p:txBody>
      </p:sp>
      <p:pic>
        <p:nvPicPr>
          <p:cNvPr id="563" name="Picture 1" descr=""/>
          <p:cNvPicPr/>
          <p:nvPr/>
        </p:nvPicPr>
        <p:blipFill>
          <a:blip r:embed="rId1"/>
          <a:stretch/>
        </p:blipFill>
        <p:spPr>
          <a:xfrm>
            <a:off x="3898800" y="1752480"/>
            <a:ext cx="5227560" cy="30481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3" descr="swfButton.png"/>
          <p:cNvPicPr/>
          <p:nvPr/>
        </p:nvPicPr>
        <p:blipFill>
          <a:blip r:embed="rId2"/>
          <a:stretch/>
        </p:blipFill>
        <p:spPr>
          <a:xfrm>
            <a:off x="1917720" y="619128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3" descr="swfButton.png"/>
          <p:cNvPicPr/>
          <p:nvPr/>
        </p:nvPicPr>
        <p:blipFill>
          <a:blip r:embed="rId3"/>
          <a:stretch/>
        </p:blipFill>
        <p:spPr>
          <a:xfrm>
            <a:off x="596880" y="619128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4680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programm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6840" y="12949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ssed from the Reprogram pull dow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rogram window displays current CMC val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Current values can be saved for later retrieval.</a:t>
            </a:r>
            <a:endParaRPr b="0" i="1" lang="en-US" sz="1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a CMC value to be chang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Enter new value and hit enter.</a:t>
            </a:r>
            <a:endParaRPr b="0" i="1" lang="en-US" sz="1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Reprogram System butt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Commits changes to the TCM/VCM.</a:t>
            </a:r>
            <a:endParaRPr b="0" i="1" lang="en-US" sz="1600" spc="-1" strike="noStrike">
              <a:solidFill>
                <a:srgbClr val="337549"/>
              </a:solidFill>
              <a:latin typeface="Arial"/>
            </a:endParaRPr>
          </a:p>
        </p:txBody>
      </p:sp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3848040" y="1460520"/>
            <a:ext cx="5272200" cy="30733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3" descr="swfButton.png"/>
          <p:cNvPicPr/>
          <p:nvPr/>
        </p:nvPicPr>
        <p:blipFill>
          <a:blip r:embed="rId2"/>
          <a:stretch/>
        </p:blipFill>
        <p:spPr>
          <a:xfrm>
            <a:off x="1917720" y="619128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swfButton.png"/>
          <p:cNvPicPr/>
          <p:nvPr/>
        </p:nvPicPr>
        <p:blipFill>
          <a:blip r:embed="rId3"/>
          <a:stretch/>
        </p:blipFill>
        <p:spPr>
          <a:xfrm>
            <a:off x="596880" y="619128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4191120" y="4495680"/>
            <a:ext cx="447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programming is only available to technicians who pass additional training and receive a certificate enabling Reprogramming ac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4680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aphical View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94920"/>
            <a:ext cx="3657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s diagnostic data using gauges, thermometers and indicator lights includ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2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Engine speed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Service brake applied status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Drive unit output shaft speed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Motor temperatures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Drive unit fluid temperature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ESS temperature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ESS DC voltage level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TCM voltage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Input/Output wire states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</p:txBody>
      </p:sp>
      <p:pic>
        <p:nvPicPr>
          <p:cNvPr id="519" name="Picture 1" descr=""/>
          <p:cNvPicPr/>
          <p:nvPr/>
        </p:nvPicPr>
        <p:blipFill>
          <a:blip r:embed="rId1"/>
          <a:stretch/>
        </p:blipFill>
        <p:spPr>
          <a:xfrm>
            <a:off x="4013280" y="1371600"/>
            <a:ext cx="5072040" cy="2971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3" descr="swfButt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17720" y="619128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3" descr="swfButton.png"/>
          <p:cNvPicPr/>
          <p:nvPr/>
        </p:nvPicPr>
        <p:blipFill>
          <a:blip r:embed="rId4"/>
          <a:stretch/>
        </p:blipFill>
        <p:spPr>
          <a:xfrm>
            <a:off x="596880" y="619128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4680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Moni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294920"/>
            <a:ext cx="3657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s a real-time look at what is occurring in the H 40/50 EP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agnostic information is grouped by category in the left pa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/Output wire information is listed in the right pa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Pushbutton Shift Selector (PBSS) category is only displayed when connected to systems equipped with Allison 4</a:t>
            </a:r>
            <a:r>
              <a:rPr b="0" i="1" lang="en-US" sz="1800" spc="-1" strike="noStrike" baseline="30000">
                <a:solidFill>
                  <a:srgbClr val="aae2ca"/>
                </a:solidFill>
                <a:latin typeface="Arial"/>
              </a:rPr>
              <a:t>th</a:t>
            </a: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 Generation Controls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</p:txBody>
      </p:sp>
      <p:pic>
        <p:nvPicPr>
          <p:cNvPr id="524" name="Picture 1" descr=""/>
          <p:cNvPicPr/>
          <p:nvPr/>
        </p:nvPicPr>
        <p:blipFill>
          <a:blip r:embed="rId1"/>
          <a:stretch/>
        </p:blipFill>
        <p:spPr>
          <a:xfrm>
            <a:off x="4046400" y="1616040"/>
            <a:ext cx="5085000" cy="2979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3" descr="swfButt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17720" y="619128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3" descr="swfButton.png"/>
          <p:cNvPicPr/>
          <p:nvPr/>
        </p:nvPicPr>
        <p:blipFill>
          <a:blip r:embed="rId4"/>
          <a:stretch/>
        </p:blipFill>
        <p:spPr>
          <a:xfrm>
            <a:off x="596880" y="619128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3"/>
          <p:cNvSpPr/>
          <p:nvPr/>
        </p:nvSpPr>
        <p:spPr>
          <a:xfrm>
            <a:off x="4191120" y="4595760"/>
            <a:ext cx="447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ushbutton Shift Selector (PBSS) category is only displayed when connected to systems equipped with Allison 4th Generation Contro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4680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S Data Moni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949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and a category in the right pane using the plus sig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data category to be requested from the 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A green light illuminates indicating the category is selected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Real-time data is transmitted from the ESS via the J1939 datalink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sing the Request ESS Data window terminates all information requests from the 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" descr=""/>
          <p:cNvPicPr/>
          <p:nvPr/>
        </p:nvPicPr>
        <p:blipFill>
          <a:blip r:embed="rId1"/>
          <a:stretch/>
        </p:blipFill>
        <p:spPr>
          <a:xfrm>
            <a:off x="4013280" y="1676520"/>
            <a:ext cx="5072040" cy="2971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swfButt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17720" y="619128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3" descr="swfButton.png"/>
          <p:cNvPicPr/>
          <p:nvPr/>
        </p:nvPicPr>
        <p:blipFill>
          <a:blip r:embed="rId4"/>
          <a:stretch/>
        </p:blipFill>
        <p:spPr>
          <a:xfrm>
            <a:off x="596880" y="619128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4680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ustom Data Moni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29492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s technicians to choose the data points to display in the Data Monitor windo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Specific data can be selected for a more focused view of diagnostic information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Data list configurations can be saved and recalled for later use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33754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de-selected data is not displayed, it is still being requested by the Allison DOC® softwa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" descr=""/>
          <p:cNvPicPr/>
          <p:nvPr/>
        </p:nvPicPr>
        <p:blipFill>
          <a:blip r:embed="rId1"/>
          <a:stretch/>
        </p:blipFill>
        <p:spPr>
          <a:xfrm>
            <a:off x="4025880" y="1600200"/>
            <a:ext cx="5054760" cy="29718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3" descr="swfButt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17720" y="619128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3" descr="swfButton.png"/>
          <p:cNvPicPr/>
          <p:nvPr/>
        </p:nvPicPr>
        <p:blipFill>
          <a:blip r:embed="rId4"/>
          <a:stretch/>
        </p:blipFill>
        <p:spPr>
          <a:xfrm>
            <a:off x="596880" y="619128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4114800" y="4572000"/>
            <a:ext cx="447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SS data must be requested via the Request ESS Data window before it will be displayed in the Custom Data Moni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4680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libration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949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s current calibration information includ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Customer Modifiable Constants.</a:t>
            </a:r>
            <a:endParaRPr b="0" i="1" lang="en-US" sz="1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SID (System Identification Number).</a:t>
            </a:r>
            <a:endParaRPr b="0" i="1" lang="en-US" sz="1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TCM/VCM type.</a:t>
            </a:r>
            <a:endParaRPr b="0" i="1" lang="en-US" sz="1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ESS and DPIM version information.</a:t>
            </a:r>
            <a:endParaRPr b="0" i="1" lang="en-US" sz="1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Input/Output wire states.</a:t>
            </a:r>
            <a:endParaRPr b="0" i="1" lang="en-US" sz="1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ESS System ID information.</a:t>
            </a:r>
            <a:endParaRPr b="0" i="1" lang="en-US" sz="1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33754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12"/>
              </a:spcBef>
              <a:buClr>
                <a:srgbClr val="307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ae2ca"/>
                </a:solidFill>
                <a:latin typeface="Arial"/>
              </a:rPr>
              <a:t>BCIM year.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12"/>
              </a:spcBef>
              <a:buClr>
                <a:srgbClr val="307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ae2ca"/>
                </a:solidFill>
                <a:latin typeface="Arial"/>
              </a:rPr>
              <a:t>BCIM revision level.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12"/>
              </a:spcBef>
              <a:buClr>
                <a:srgbClr val="307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ae2ca"/>
                </a:solidFill>
                <a:latin typeface="Arial"/>
              </a:rPr>
              <a:t>BCIM software level.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41" name="Picture 1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5332680" cy="31244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3" descr="swfButt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17720" y="619128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3" descr="swfButton.png"/>
          <p:cNvPicPr/>
          <p:nvPr/>
        </p:nvPicPr>
        <p:blipFill>
          <a:blip r:embed="rId4"/>
          <a:stretch/>
        </p:blipFill>
        <p:spPr>
          <a:xfrm>
            <a:off x="596880" y="619128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4680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utch Tes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6840" y="12949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check clutch pressur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Select a clutch to apply via the clutch tests popup window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Range selection and clutch information can be viewed in the Data Monitor window during the test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</p:txBody>
      </p:sp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5227560" cy="3048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swfButt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17720" y="619128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3" descr="swfButton.png"/>
          <p:cNvPicPr/>
          <p:nvPr/>
        </p:nvPicPr>
        <p:blipFill>
          <a:blip r:embed="rId4"/>
          <a:stretch/>
        </p:blipFill>
        <p:spPr>
          <a:xfrm>
            <a:off x="596880" y="619128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3"/>
          <p:cNvSpPr/>
          <p:nvPr/>
        </p:nvSpPr>
        <p:spPr>
          <a:xfrm>
            <a:off x="4114800" y="4572000"/>
            <a:ext cx="44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e sure engine is running and drive unit is in Neutral before beginning a Clutch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4680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put Tes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29492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check output wiring circuits connected to the TCM/VC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Current state of circuit is displayed below the selected output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On and Off buttons energize and de-energize selected circuit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33754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307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ae2ca"/>
                </a:solidFill>
                <a:latin typeface="Arial"/>
              </a:rPr>
              <a:t>Circuit on/off state is displayed in real-time.</a:t>
            </a:r>
            <a:endParaRPr b="0" i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52" name="Picture 1" descr=""/>
          <p:cNvPicPr/>
          <p:nvPr/>
        </p:nvPicPr>
        <p:blipFill>
          <a:blip r:embed="rId1"/>
          <a:stretch/>
        </p:blipFill>
        <p:spPr>
          <a:xfrm>
            <a:off x="3924360" y="1627200"/>
            <a:ext cx="5181480" cy="30211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3" descr="swfButt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17720" y="619128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3" descr="swfButton.png"/>
          <p:cNvPicPr/>
          <p:nvPr/>
        </p:nvPicPr>
        <p:blipFill>
          <a:blip r:embed="rId4"/>
          <a:stretch/>
        </p:blipFill>
        <p:spPr>
          <a:xfrm>
            <a:off x="596880" y="619128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4680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set Adap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29492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et Adaptives window displays tabs containing each set of adaptive val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Reset Adaptives tab allows selection of adaptives to be reset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Clutch 1 and Clutch 2 tabs display currently stored adaptive values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s learned adaptive parameters to be reset to factory defaul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64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33754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307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e2ca"/>
                </a:solidFill>
                <a:latin typeface="Arial"/>
              </a:rPr>
              <a:t>Use after drive unit component overhaul or internal repair.</a:t>
            </a:r>
            <a:endParaRPr b="0" i="1" lang="en-US" sz="1800" spc="-1" strike="noStrike">
              <a:solidFill>
                <a:srgbClr val="337549"/>
              </a:solidFill>
              <a:latin typeface="Arial"/>
            </a:endParaRPr>
          </a:p>
        </p:txBody>
      </p:sp>
      <p:pic>
        <p:nvPicPr>
          <p:cNvPr id="557" name="Picture 1" descr=""/>
          <p:cNvPicPr/>
          <p:nvPr/>
        </p:nvPicPr>
        <p:blipFill>
          <a:blip r:embed="rId1"/>
          <a:stretch/>
        </p:blipFill>
        <p:spPr>
          <a:xfrm>
            <a:off x="4000680" y="1523880"/>
            <a:ext cx="5097240" cy="29718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3" descr="swfButt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17720" y="619128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3" descr="swfButton.png"/>
          <p:cNvPicPr/>
          <p:nvPr/>
        </p:nvPicPr>
        <p:blipFill>
          <a:blip r:embed="rId4"/>
          <a:stretch/>
        </p:blipFill>
        <p:spPr>
          <a:xfrm>
            <a:off x="596880" y="619128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3"/>
          <p:cNvSpPr/>
          <p:nvPr/>
        </p:nvSpPr>
        <p:spPr>
          <a:xfrm>
            <a:off x="4191120" y="4495680"/>
            <a:ext cx="44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etting individual range shifts aids in troubleshooting shift performance complai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8:26Z</dcterms:created>
  <dc:creator>Mike Garrard</dc:creator>
  <dc:description/>
  <dc:language>en-US</dc:language>
  <cp:lastModifiedBy>Scott Scull</cp:lastModifiedBy>
  <dcterms:modified xsi:type="dcterms:W3CDTF">2012-08-09T13:52:16Z</dcterms:modified>
  <cp:revision>484</cp:revision>
  <dc:subject/>
  <dc:title>PowerPoint Presentation</dc:title>
</cp:coreProperties>
</file>