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5FCE4-39B7-4780-8084-689F7CD4B1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92E20-8A31-48C9-BB37-60E6F64753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112834-0711-44D2-B735-45375AAB50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621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7F598A-B42D-41DF-924C-BED2972A4500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762120" y="45684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7621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7448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7621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7621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7621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7448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3901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177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7621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3901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177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621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448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3616CE-4F2A-446D-8245-E796DAC96886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3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762120" y="45684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7621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7448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7621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7621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7621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7448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901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177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621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901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177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06A7D9-51EC-43A6-857B-18AD51006477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3901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0177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7621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3901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60177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3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ubTitle"/>
          </p:nvPr>
        </p:nvSpPr>
        <p:spPr>
          <a:xfrm>
            <a:off x="762120" y="45684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7621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7448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7621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7621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7621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7448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33901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60177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7621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6"/>
          <p:cNvSpPr>
            <a:spLocks noGrp="1"/>
          </p:cNvSpPr>
          <p:nvPr>
            <p:ph/>
          </p:nvPr>
        </p:nvSpPr>
        <p:spPr>
          <a:xfrm>
            <a:off x="33901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7"/>
          <p:cNvSpPr>
            <a:spLocks noGrp="1"/>
          </p:cNvSpPr>
          <p:nvPr>
            <p:ph/>
          </p:nvPr>
        </p:nvSpPr>
        <p:spPr>
          <a:xfrm>
            <a:off x="60177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3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ubTitle"/>
          </p:nvPr>
        </p:nvSpPr>
        <p:spPr>
          <a:xfrm>
            <a:off x="762120" y="45684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7621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3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7448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7621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7621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7621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47448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33901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60177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7621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6"/>
          <p:cNvSpPr>
            <a:spLocks noGrp="1"/>
          </p:cNvSpPr>
          <p:nvPr>
            <p:ph/>
          </p:nvPr>
        </p:nvSpPr>
        <p:spPr>
          <a:xfrm>
            <a:off x="33901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7"/>
          <p:cNvSpPr>
            <a:spLocks noGrp="1"/>
          </p:cNvSpPr>
          <p:nvPr>
            <p:ph/>
          </p:nvPr>
        </p:nvSpPr>
        <p:spPr>
          <a:xfrm>
            <a:off x="60177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762120" y="45684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7621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3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346060-0D75-49D4-BFEE-834C6DA38B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48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7621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7621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7621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48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901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177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7621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901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177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3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929590-E17F-417E-8445-3A7FFB0CAB3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762120" y="45684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7621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7448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7621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7621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7621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7448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901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177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7621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901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177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3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A8ECC0-8E9C-4CDC-A4EB-360C547DA693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762120" y="45684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7621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7448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7621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7621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7621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7448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3901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177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7621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3901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177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334F62-390F-4B22-A914-3396642DC40B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3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762120" y="45684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7621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7448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7621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7621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7621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7448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62120" y="45684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DE60B8-BA7C-4CCA-AE3A-BB5642FB47E7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3901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0177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7621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3901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0177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3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762120" y="45684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7621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7448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7621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621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4DB56B-5888-4BF3-800D-3A70E09741BA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7621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7621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7448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3901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0177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7621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3901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60177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3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762120" y="45684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7621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448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BE8930-80B5-45D8-A140-84FAC20D2585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7448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7621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7621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7621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7448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3901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177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7621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3901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177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3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621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335B9C-2773-4613-B585-640C83FF8538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762120" y="45684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7621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7448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7621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7621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7621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7448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3901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177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7621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3901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177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3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03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621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312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5000"/>
              </a:lnSpc>
              <a:spcBef>
                <a:spcPts val="1312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5000"/>
              </a:lnSpc>
              <a:spcBef>
                <a:spcPts val="1312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035"/>
          <p:cNvSpPr/>
          <p:nvPr/>
        </p:nvSpPr>
        <p:spPr>
          <a:xfrm>
            <a:off x="762120" y="-14400"/>
            <a:ext cx="8381880" cy="38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Box 5"/>
          <p:cNvSpPr/>
          <p:nvPr/>
        </p:nvSpPr>
        <p:spPr>
          <a:xfrm>
            <a:off x="7942320" y="6561000"/>
            <a:ext cx="119700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DEC80-20E0-4670-9568-D7F7FBA1412E}" type="slidenum">
              <a:rPr b="0" lang="en-US" sz="1200" spc="-1" strike="noStrike">
                <a:solidFill>
                  <a:srgbClr val="404040"/>
                </a:solidFill>
                <a:latin typeface="Arial Black"/>
              </a:rPr>
              <a:t>&lt;number&gt;</a:t>
            </a:fld>
            <a:r>
              <a:rPr b="0" lang="en-US" sz="1200" spc="-1" strike="noStrike">
                <a:solidFill>
                  <a:srgbClr val="404040"/>
                </a:solidFill>
                <a:latin typeface="Arial Black"/>
              </a:rPr>
              <a:t> of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17685-C758-456E-AC53-336F17E7C56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Picture 103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1" name="Rectangle 1035"/>
          <p:cNvSpPr/>
          <p:nvPr/>
        </p:nvSpPr>
        <p:spPr>
          <a:xfrm>
            <a:off x="762120" y="-14400"/>
            <a:ext cx="8381880" cy="38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Box 5"/>
          <p:cNvSpPr/>
          <p:nvPr/>
        </p:nvSpPr>
        <p:spPr>
          <a:xfrm>
            <a:off x="7942320" y="6561000"/>
            <a:ext cx="119700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2058A-EDC4-4DBF-84B8-C2D1BD499A8C}" type="slidenum">
              <a:rPr b="0" lang="en-US" sz="1200" spc="-1" strike="noStrike">
                <a:solidFill>
                  <a:srgbClr val="404040"/>
                </a:solidFill>
                <a:latin typeface="Arial Black"/>
              </a:rPr>
              <a:t>&lt;number&gt;</a:t>
            </a:fld>
            <a:r>
              <a:rPr b="0" lang="en-US" sz="1200" spc="-1" strike="noStrike">
                <a:solidFill>
                  <a:srgbClr val="404040"/>
                </a:solidFill>
                <a:latin typeface="Arial Black"/>
              </a:rPr>
              <a:t> of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621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312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5000"/>
              </a:lnSpc>
              <a:spcBef>
                <a:spcPts val="1312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5000"/>
              </a:lnSpc>
              <a:spcBef>
                <a:spcPts val="1312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Picture 103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2" name="Rectangle 1035"/>
          <p:cNvSpPr/>
          <p:nvPr/>
        </p:nvSpPr>
        <p:spPr>
          <a:xfrm>
            <a:off x="762120" y="-14400"/>
            <a:ext cx="8381880" cy="38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Box 5"/>
          <p:cNvSpPr/>
          <p:nvPr/>
        </p:nvSpPr>
        <p:spPr>
          <a:xfrm>
            <a:off x="7942320" y="6561000"/>
            <a:ext cx="119700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80DA2-249A-4545-9938-968CF91D0E3E}" type="slidenum">
              <a:rPr b="0" lang="en-US" sz="1200" spc="-1" strike="noStrike">
                <a:solidFill>
                  <a:srgbClr val="404040"/>
                </a:solidFill>
                <a:latin typeface="Arial Black"/>
              </a:rPr>
              <a:t>&lt;number&gt;</a:t>
            </a:fld>
            <a:r>
              <a:rPr b="0" lang="en-US" sz="1200" spc="-1" strike="noStrike">
                <a:solidFill>
                  <a:srgbClr val="404040"/>
                </a:solidFill>
                <a:latin typeface="Arial Black"/>
              </a:rPr>
              <a:t> of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7621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312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5000"/>
              </a:lnSpc>
              <a:spcBef>
                <a:spcPts val="1312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5000"/>
              </a:lnSpc>
              <a:spcBef>
                <a:spcPts val="1312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2" name="Picture 103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3" name="Rectangle 1035"/>
          <p:cNvSpPr/>
          <p:nvPr/>
        </p:nvSpPr>
        <p:spPr>
          <a:xfrm>
            <a:off x="762120" y="-14400"/>
            <a:ext cx="8381880" cy="38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Box 5"/>
          <p:cNvSpPr/>
          <p:nvPr/>
        </p:nvSpPr>
        <p:spPr>
          <a:xfrm>
            <a:off x="7942320" y="6561000"/>
            <a:ext cx="119700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D260F-5E7C-4F0B-ACEB-B1BAE02806EB}" type="slidenum">
              <a:rPr b="0" lang="en-US" sz="1200" spc="-1" strike="noStrike">
                <a:solidFill>
                  <a:srgbClr val="404040"/>
                </a:solidFill>
                <a:latin typeface="Arial Black"/>
              </a:rPr>
              <a:t>&lt;number&gt;</a:t>
            </a:fld>
            <a:r>
              <a:rPr b="0" lang="en-US" sz="1200" spc="-1" strike="noStrike">
                <a:solidFill>
                  <a:srgbClr val="404040"/>
                </a:solidFill>
                <a:latin typeface="Arial Black"/>
              </a:rPr>
              <a:t> of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621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312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5000"/>
              </a:lnSpc>
              <a:spcBef>
                <a:spcPts val="1312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5000"/>
              </a:lnSpc>
              <a:spcBef>
                <a:spcPts val="1312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03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1035"/>
          <p:cNvSpPr/>
          <p:nvPr/>
        </p:nvSpPr>
        <p:spPr>
          <a:xfrm>
            <a:off x="762120" y="-14400"/>
            <a:ext cx="8381880" cy="38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5"/>
          <p:cNvSpPr/>
          <p:nvPr/>
        </p:nvSpPr>
        <p:spPr>
          <a:xfrm>
            <a:off x="7942320" y="6561000"/>
            <a:ext cx="119700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32928-1C22-4271-9CD9-30A364AA816B}" type="slidenum">
              <a:rPr b="0" lang="en-US" sz="1200" spc="-1" strike="noStrike">
                <a:solidFill>
                  <a:srgbClr val="404040"/>
                </a:solidFill>
                <a:latin typeface="Arial Black"/>
              </a:rPr>
              <a:t>&lt;number&gt;</a:t>
            </a:fld>
            <a:r>
              <a:rPr b="0" lang="en-US" sz="1200" spc="-1" strike="noStrike">
                <a:solidFill>
                  <a:srgbClr val="404040"/>
                </a:solidFill>
                <a:latin typeface="Arial Black"/>
              </a:rPr>
              <a:t> of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621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312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5000"/>
              </a:lnSpc>
              <a:spcBef>
                <a:spcPts val="1312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5000"/>
              </a:lnSpc>
              <a:spcBef>
                <a:spcPts val="1312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103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1035"/>
          <p:cNvSpPr/>
          <p:nvPr/>
        </p:nvSpPr>
        <p:spPr>
          <a:xfrm>
            <a:off x="762120" y="-14400"/>
            <a:ext cx="8381880" cy="38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5"/>
          <p:cNvSpPr/>
          <p:nvPr/>
        </p:nvSpPr>
        <p:spPr>
          <a:xfrm>
            <a:off x="7942320" y="6561000"/>
            <a:ext cx="119700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6E543-B0EA-4BD9-84E7-F5B19CD5A6FF}" type="slidenum">
              <a:rPr b="0" lang="en-US" sz="1200" spc="-1" strike="noStrike">
                <a:solidFill>
                  <a:srgbClr val="404040"/>
                </a:solidFill>
                <a:latin typeface="Arial Black"/>
              </a:rPr>
              <a:t>&lt;number&gt;</a:t>
            </a:fld>
            <a:r>
              <a:rPr b="0" lang="en-US" sz="1200" spc="-1" strike="noStrike">
                <a:solidFill>
                  <a:srgbClr val="404040"/>
                </a:solidFill>
                <a:latin typeface="Arial Black"/>
              </a:rPr>
              <a:t> of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7621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312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5000"/>
              </a:lnSpc>
              <a:spcBef>
                <a:spcPts val="1312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5000"/>
              </a:lnSpc>
              <a:spcBef>
                <a:spcPts val="1312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103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1035"/>
          <p:cNvSpPr/>
          <p:nvPr/>
        </p:nvSpPr>
        <p:spPr>
          <a:xfrm>
            <a:off x="762120" y="-14400"/>
            <a:ext cx="8381880" cy="38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5"/>
          <p:cNvSpPr/>
          <p:nvPr/>
        </p:nvSpPr>
        <p:spPr>
          <a:xfrm>
            <a:off x="7942320" y="6561000"/>
            <a:ext cx="119700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6206B-409E-4415-9EFF-141649937CBB}" type="slidenum">
              <a:rPr b="0" lang="en-US" sz="1200" spc="-1" strike="noStrike">
                <a:solidFill>
                  <a:srgbClr val="404040"/>
                </a:solidFill>
                <a:latin typeface="Arial Black"/>
              </a:rPr>
              <a:t>&lt;number&gt;</a:t>
            </a:fld>
            <a:r>
              <a:rPr b="0" lang="en-US" sz="1200" spc="-1" strike="noStrike">
                <a:solidFill>
                  <a:srgbClr val="404040"/>
                </a:solidFill>
                <a:latin typeface="Arial Black"/>
              </a:rPr>
              <a:t> of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7621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312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5000"/>
              </a:lnSpc>
              <a:spcBef>
                <a:spcPts val="1312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5000"/>
              </a:lnSpc>
              <a:spcBef>
                <a:spcPts val="1312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103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1035"/>
          <p:cNvSpPr/>
          <p:nvPr/>
        </p:nvSpPr>
        <p:spPr>
          <a:xfrm>
            <a:off x="762120" y="-14400"/>
            <a:ext cx="8381880" cy="38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5"/>
          <p:cNvSpPr/>
          <p:nvPr/>
        </p:nvSpPr>
        <p:spPr>
          <a:xfrm>
            <a:off x="7942320" y="6561000"/>
            <a:ext cx="119700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8359D-10B3-4962-B019-2D57B0CEEA34}" type="slidenum">
              <a:rPr b="0" lang="en-US" sz="1200" spc="-1" strike="noStrike">
                <a:solidFill>
                  <a:srgbClr val="404040"/>
                </a:solidFill>
                <a:latin typeface="Arial Black"/>
              </a:rPr>
              <a:t>&lt;number&gt;</a:t>
            </a:fld>
            <a:r>
              <a:rPr b="0" lang="en-US" sz="1200" spc="-1" strike="noStrike">
                <a:solidFill>
                  <a:srgbClr val="404040"/>
                </a:solidFill>
                <a:latin typeface="Arial Black"/>
              </a:rPr>
              <a:t> of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621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312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5000"/>
              </a:lnSpc>
              <a:spcBef>
                <a:spcPts val="1312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5000"/>
              </a:lnSpc>
              <a:spcBef>
                <a:spcPts val="1312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103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7" name="Rectangle 1035"/>
          <p:cNvSpPr/>
          <p:nvPr/>
        </p:nvSpPr>
        <p:spPr>
          <a:xfrm>
            <a:off x="762120" y="-14400"/>
            <a:ext cx="8381880" cy="38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5"/>
          <p:cNvSpPr/>
          <p:nvPr/>
        </p:nvSpPr>
        <p:spPr>
          <a:xfrm>
            <a:off x="7942320" y="6561000"/>
            <a:ext cx="119700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D3E5C-157F-40F6-844C-DD0BD3F6CF95}" type="slidenum">
              <a:rPr b="0" lang="en-US" sz="1200" spc="-1" strike="noStrike">
                <a:solidFill>
                  <a:srgbClr val="404040"/>
                </a:solidFill>
                <a:latin typeface="Arial Black"/>
              </a:rPr>
              <a:t>&lt;number&gt;</a:t>
            </a:fld>
            <a:r>
              <a:rPr b="0" lang="en-US" sz="1200" spc="-1" strike="noStrike">
                <a:solidFill>
                  <a:srgbClr val="404040"/>
                </a:solidFill>
                <a:latin typeface="Arial Black"/>
              </a:rPr>
              <a:t> of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7621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312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5000"/>
              </a:lnSpc>
              <a:spcBef>
                <a:spcPts val="1312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5000"/>
              </a:lnSpc>
              <a:spcBef>
                <a:spcPts val="1312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103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8" name="Rectangle 1035"/>
          <p:cNvSpPr/>
          <p:nvPr/>
        </p:nvSpPr>
        <p:spPr>
          <a:xfrm>
            <a:off x="762120" y="-14400"/>
            <a:ext cx="8381880" cy="38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Box 5"/>
          <p:cNvSpPr/>
          <p:nvPr/>
        </p:nvSpPr>
        <p:spPr>
          <a:xfrm>
            <a:off x="7942320" y="6561000"/>
            <a:ext cx="119700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8317C-64B2-4420-A6A9-C39A1BD36B79}" type="slidenum">
              <a:rPr b="0" lang="en-US" sz="1200" spc="-1" strike="noStrike">
                <a:solidFill>
                  <a:srgbClr val="404040"/>
                </a:solidFill>
                <a:latin typeface="Arial Black"/>
              </a:rPr>
              <a:t>&lt;number&gt;</a:t>
            </a:fld>
            <a:r>
              <a:rPr b="0" lang="en-US" sz="1200" spc="-1" strike="noStrike">
                <a:solidFill>
                  <a:srgbClr val="404040"/>
                </a:solidFill>
                <a:latin typeface="Arial Black"/>
              </a:rPr>
              <a:t> of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7621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312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5000"/>
              </a:lnSpc>
              <a:spcBef>
                <a:spcPts val="1312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5000"/>
              </a:lnSpc>
              <a:spcBef>
                <a:spcPts val="1312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Picture 103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9" name="Rectangle 1035"/>
          <p:cNvSpPr/>
          <p:nvPr/>
        </p:nvSpPr>
        <p:spPr>
          <a:xfrm>
            <a:off x="762120" y="-14400"/>
            <a:ext cx="8381880" cy="38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Box 5"/>
          <p:cNvSpPr/>
          <p:nvPr/>
        </p:nvSpPr>
        <p:spPr>
          <a:xfrm>
            <a:off x="7942320" y="6561000"/>
            <a:ext cx="119700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F9AAF-6F74-4EB4-B29D-0BB63871A3FB}" type="slidenum">
              <a:rPr b="0" lang="en-US" sz="1200" spc="-1" strike="noStrike">
                <a:solidFill>
                  <a:srgbClr val="404040"/>
                </a:solidFill>
                <a:latin typeface="Arial Black"/>
              </a:rPr>
              <a:t>&lt;number&gt;</a:t>
            </a:fld>
            <a:r>
              <a:rPr b="0" lang="en-US" sz="1200" spc="-1" strike="noStrike">
                <a:solidFill>
                  <a:srgbClr val="404040"/>
                </a:solidFill>
                <a:latin typeface="Arial Black"/>
              </a:rPr>
              <a:t> of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7621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312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5000"/>
              </a:lnSpc>
              <a:spcBef>
                <a:spcPts val="1312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5000"/>
              </a:lnSpc>
              <a:spcBef>
                <a:spcPts val="1312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Picture 103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30" name="Rectangle 1035"/>
          <p:cNvSpPr/>
          <p:nvPr/>
        </p:nvSpPr>
        <p:spPr>
          <a:xfrm>
            <a:off x="762120" y="-14400"/>
            <a:ext cx="8381880" cy="38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Box 5"/>
          <p:cNvSpPr/>
          <p:nvPr/>
        </p:nvSpPr>
        <p:spPr>
          <a:xfrm>
            <a:off x="7942320" y="6561000"/>
            <a:ext cx="119700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CEB01-7503-4705-AA06-FB4398285F9B}" type="slidenum">
              <a:rPr b="0" lang="en-US" sz="1200" spc="-1" strike="noStrike">
                <a:solidFill>
                  <a:srgbClr val="404040"/>
                </a:solidFill>
                <a:latin typeface="Arial Black"/>
              </a:rPr>
              <a:t>&lt;number&gt;</a:t>
            </a:fld>
            <a:r>
              <a:rPr b="0" lang="en-US" sz="1200" spc="-1" strike="noStrike">
                <a:solidFill>
                  <a:srgbClr val="404040"/>
                </a:solidFill>
                <a:latin typeface="Arial Black"/>
              </a:rPr>
              <a:t> of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7621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312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5000"/>
              </a:lnSpc>
              <a:spcBef>
                <a:spcPts val="1312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5000"/>
              </a:lnSpc>
              <a:spcBef>
                <a:spcPts val="1312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TextBox 3"/>
          <p:cNvSpPr/>
          <p:nvPr/>
        </p:nvSpPr>
        <p:spPr>
          <a:xfrm>
            <a:off x="3098880" y="-30240"/>
            <a:ext cx="6045120" cy="7642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Arial Black"/>
                <a:ea typeface="Arial"/>
              </a:rPr>
              <a:t>Allison DOC® - H40/50 E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Arial Black"/>
                <a:ea typeface="Arial"/>
              </a:rPr>
              <a:t>Output Tes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1" name="Picture 1" descr=""/>
          <p:cNvPicPr/>
          <p:nvPr/>
        </p:nvPicPr>
        <p:blipFill>
          <a:blip r:embed="rId1"/>
          <a:stretch/>
        </p:blipFill>
        <p:spPr>
          <a:xfrm>
            <a:off x="431640" y="1357200"/>
            <a:ext cx="8001000" cy="4665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30T21:28:26Z</dcterms:created>
  <dc:creator>Mike Garrard</dc:creator>
  <dc:description/>
  <dc:language>en-US</dc:language>
  <cp:lastModifiedBy>Scott Scull</cp:lastModifiedBy>
  <dcterms:modified xsi:type="dcterms:W3CDTF">2012-08-09T13:32:48Z</dcterms:modified>
  <cp:revision>382</cp:revision>
  <dc:subject/>
  <dc:title>PowerPoint Presentation</dc:title>
</cp:coreProperties>
</file>