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39BD-5507-4B70-9B3B-1568590CC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9C2D-DD6D-45F2-BEDC-188131E1D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8B58-4201-4E56-8211-2B3C5E19E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C88F-1D1D-4FDF-B395-FC646CD9BB2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E2D0-F93C-468F-BB7A-4104F913583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828F-F308-4F91-AAD5-C5842C290E7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7885-8F93-4228-8513-64EA98B28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8530-AB04-44F1-9A5F-1D1618AA35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BC2E-5282-48F7-8ABB-25A26002D7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84D6-8A88-42E3-809F-0304B236D8D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BF71-DCFC-432E-B332-E94E5C37F2C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3BBF-B390-4BEC-9AF3-8CB434C36EC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E652-4BE2-4D91-99A4-13868437915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F6E7-4EB4-42D6-AA42-0FF8C4AFE5F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678D-6CD2-451D-BBA9-AA4179B5C64C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850F-1607-48DB-8EE4-2DBC499A43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CF1B-658D-468A-9FAB-610738B5B18C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ADEC-82F1-43D6-9828-46055FE4DD8E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A884-78A5-438B-B5B1-D54BE88C3BFA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BB5A-433E-4B5E-9BCF-71D4F8F180D6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8F64-BA85-4A20-8479-83297CB58F41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7AB3-7C89-4F28-8CDA-F04F17597912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1313-15B7-43DD-93AE-33884AE3DFD9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808C-1EDE-4FB3-A905-3D9DAC27093C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7009-6C60-4CAC-8A2F-5F4D61FFCA8A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2F86-DB0A-4FA3-8BF4-D2B22571AAFB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299C-C7A2-4B7D-855E-E05BBB37BC1E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Box 3"/>
          <p:cNvSpPr/>
          <p:nvPr/>
        </p:nvSpPr>
        <p:spPr>
          <a:xfrm>
            <a:off x="3098880" y="-30240"/>
            <a:ext cx="604512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  <a:ea typeface="Arial"/>
              </a:rPr>
              <a:t>Allison DOC® - H40/50 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  <a:ea typeface="Arial"/>
              </a:rPr>
              <a:t>ESS Data Monitor Scr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" descr=""/>
          <p:cNvPicPr/>
          <p:nvPr/>
        </p:nvPicPr>
        <p:blipFill>
          <a:blip r:embed="rId1"/>
          <a:stretch/>
        </p:blipFill>
        <p:spPr>
          <a:xfrm>
            <a:off x="431640" y="1346040"/>
            <a:ext cx="8001000" cy="4687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21:28:26Z</dcterms:created>
  <dc:creator>Mike Garrard</dc:creator>
  <dc:description/>
  <dc:language>en-US</dc:language>
  <cp:lastModifiedBy>Scott Scull</cp:lastModifiedBy>
  <dcterms:modified xsi:type="dcterms:W3CDTF">2012-08-09T13:30:41Z</dcterms:modified>
  <cp:revision>378</cp:revision>
  <dc:subject/>
  <dc:title>PowerPoint Presentation</dc:title>
</cp:coreProperties>
</file>