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0EBA-AF4B-47DA-9001-BB08C8131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70FF-7B38-42F2-B2EC-F909BDAAC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2343-E34D-49BD-9A35-A4C7E7ED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0466-1AB5-4A1D-A8BB-5652EABB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6A18-10CC-4589-8E8B-4C2313955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4C0F-C297-4630-A40B-1C0BD521F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3D2F-E75A-43B0-84E0-A4E43ED7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798F-6AA6-4838-B5E5-8E66C4A5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2DFB-C764-46A1-BF42-D6BC00B2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52A5-A036-4443-85D0-7DD8B0D9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1629-A84D-4060-A7C5-43578E72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B507-B53A-49BA-914B-1C948B25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11C7-B834-4CD9-ACA2-66C999CE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2C48-D745-4019-902A-C091727D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4B00-7994-4C58-9011-A79CC004B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7375-25C5-4CC8-BDFA-C712C4181D1A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2849400" y="65160"/>
            <a:ext cx="6045480" cy="581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mportant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rcRect l="-29" t="0" r="1209" b="0"/>
          <a:stretch/>
        </p:blipFill>
        <p:spPr>
          <a:xfrm>
            <a:off x="571680" y="1058760"/>
            <a:ext cx="7680240" cy="519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05:24Z</dcterms:created>
  <dc:creator>Ron</dc:creator>
  <dc:description/>
  <dc:language>en-US</dc:language>
  <cp:lastModifiedBy>Scott Scull</cp:lastModifiedBy>
  <dcterms:modified xsi:type="dcterms:W3CDTF">2013-02-15T17:24:05Z</dcterms:modified>
  <cp:revision>304</cp:revision>
  <dc:subject/>
  <dc:title>Introduction</dc:title>
</cp:coreProperties>
</file>