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C4EF-8194-4CE0-B74C-DC1E7AEA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8781-D0A7-42AF-B0E3-B1CA3741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A40-2142-4519-93B8-00D42114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683-2DC2-4EB9-9070-10A7A07F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05E-8E10-4F41-97F1-7BA5A703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AD2-096C-41E1-8000-FD10F965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5D4-3D6E-4E8F-BDD5-C6D8A31D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8FE-527C-45DA-8EFB-24FD90FE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713-C28F-4B77-8DE9-62CCEE29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CCE-9C73-4F2A-BF2B-696C8CAC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25F-CE66-482B-8643-54F4C56C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E86-4523-40DB-BDE8-0B49C01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119-91C0-4748-8CB6-D4B11B86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4D9-FB7C-4759-BA50-E083913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601F-A629-4CC0-A963-70E896DAC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FE1E-952F-44AC-BC9D-2172B55452C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95360" y="1039680"/>
            <a:ext cx="7888320" cy="537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7:29Z</dcterms:modified>
  <cp:revision>312</cp:revision>
  <dc:subject/>
  <dc:title>Introduction</dc:title>
</cp:coreProperties>
</file>