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3C2-4082-42D3-952B-E53681B4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594-872A-4870-8612-10A87F57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D3F-0312-45FF-AB02-1B0141C3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C43-110E-4C4B-B005-E0ACE26E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F36-9F1B-4EB3-9343-85F42E06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996-F6FE-475E-ACB2-90B01EE7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D71-C82E-49B0-9FDD-4FD6553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533-4BFC-4754-91B0-346EF2C9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21-A51B-4E4D-82A7-4CCE5042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CB1-A469-4AF2-82C8-F36A659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718-C083-4D74-A80C-1E096C79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F5A-1752-4CB6-8246-E8FB031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4EB-40E4-4C8A-9FCF-DD033BD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BE2-4923-4F6B-8DAE-AE5001F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1919-D47A-4B2A-B5EA-6EB239DC0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2E2-491C-498E-8569-05CAEAE88237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09760" y="1039680"/>
            <a:ext cx="785952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8:13Z</dcterms:modified>
  <cp:revision>314</cp:revision>
  <dc:subject/>
  <dc:title>Introduction</dc:title>
</cp:coreProperties>
</file>