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28CA-CCC7-4F09-91AC-B8031487D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7249-2788-45FE-9D2C-F4ED6263D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AB6F-2348-405E-87BB-6BDF0DE0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77E8-F8F5-4D1E-AC3A-BAF562A3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E16C-F491-41BA-81BB-3278164D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2D8A-4D0D-4B9D-87CC-E58DA0EC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7658-2C6C-424B-B17E-889D613B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58D-B0DF-4988-BD21-FEA2EC05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3F54-A8C2-41D5-8CE9-0166E70C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CFC-AC0A-42CB-B3A3-B483B462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5048-36CE-41F2-AF67-4DB607D0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9A83-03E1-4DD0-9953-DCF09C22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98E9-30C2-49A4-86B2-38EBBECF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53D1-0D63-408D-BAFC-DC552C98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AD63-01EE-4485-AD0D-9C5841A7E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4981-55C8-442B-9B93-54352D364811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849400" y="65160"/>
            <a:ext cx="60454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mportant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rcRect l="-1930" t="0" r="1937" b="0"/>
          <a:stretch/>
        </p:blipFill>
        <p:spPr>
          <a:xfrm>
            <a:off x="274680" y="930240"/>
            <a:ext cx="8024760" cy="5473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2-15T17:23:22Z</dcterms:modified>
  <cp:revision>303</cp:revision>
  <dc:subject/>
  <dc:title>Introduction</dc:title>
</cp:coreProperties>
</file>