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ECDA-62CD-44DE-BFBF-BA6215FFC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9825-4DCD-4081-9E24-EDF74C104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D62-50EE-4F25-8DB6-9445EAEF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15B-BCA6-41C2-BCBD-A281A2BC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E54-A606-458C-AD56-538200EB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70DB-76BC-46DA-B188-A055500D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7E2F-3A48-4AEB-AEB6-FDB3A746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F5E-ACEF-4AD6-BBFE-BA10D961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49E-008B-4929-912E-1EDFBED4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EBD-EF21-4797-BCB5-2AB37599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DF7-D2EE-462B-9D97-CF63EDFC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03C3-AA99-4E44-8C9C-D7569333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9FA8-2BF4-4B89-B5A6-D3FB43F4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F1E0-4885-4BA3-B091-F1D0A2BA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5B74-286F-4A8C-8A9C-6E3422307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027C-9C2A-4BAE-84ED-49C8C0CE1689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849400" y="65160"/>
            <a:ext cx="60454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ortant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rcRect l="0" t="-157" r="0" b="-157"/>
          <a:stretch/>
        </p:blipFill>
        <p:spPr>
          <a:xfrm>
            <a:off x="519120" y="1047600"/>
            <a:ext cx="7877160" cy="5394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2-15T17:25:11Z</dcterms:modified>
  <cp:revision>306</cp:revision>
  <dc:subject/>
  <dc:title>Introduction</dc:title>
</cp:coreProperties>
</file>