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1506-05CA-4176-9239-9C6F0644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72AF-7EA0-4306-9D66-52B5DEF3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AF6-CC44-493D-8007-AF9087D7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2BF-6C5F-4266-87D6-09EDF1C0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E03-96D8-47A6-A74D-5335E97A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FAE-A493-42FA-86CA-10473738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91C-F633-42CD-B719-91174471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3FD-331D-41E4-BC03-5CD50C75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1EB-ABEA-46A5-85A6-B2EDD56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CFD-8FB0-426A-90DC-FBA44669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5ED-7936-468A-AD2E-94DBA77F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4C4-D55E-4610-9CE2-46944D7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17D-71B5-447C-A7E6-9AF7BAA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FB7-287A-4EA8-81D2-5D3C931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CE0-59D1-4C01-9394-7D15DE542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5DF-72A1-4617-8081-78E176927AA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0" t="1645" r="0" b="-1741"/>
          <a:stretch/>
        </p:blipFill>
        <p:spPr>
          <a:xfrm>
            <a:off x="471600" y="1036800"/>
            <a:ext cx="7877160" cy="539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4:38Z</dcterms:modified>
  <cp:revision>305</cp:revision>
  <dc:subject/>
  <dc:title>Introduction</dc:title>
</cp:coreProperties>
</file>