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247D-2E4F-4EA3-B47C-DCC712562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983C-6EF0-40E6-A107-12211C441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215-C142-445A-86A0-0BDEF77A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8D7-A188-4846-80BC-2FB4D921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5C3-5643-4713-88CD-9FD0AD73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830-446D-4D0F-A4DA-B791BFB3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E7D-319E-4895-A035-A3B7B9AC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A2F-15D3-46B6-A189-2913E06C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003-C7DC-4C36-AAFE-31FB2539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87B-8227-432F-88BF-2A8D5968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67A-6EDC-4D77-B9FA-D82A64A3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9F9-7C20-42D3-AFC1-A6D5D64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257-1D5D-42A0-BA34-BD2C05AC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051-0966-4D10-9A25-9E1D0074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D754-E152-490A-BFC0-B00F3A62E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D382-EA1A-40F9-AC02-0569FF925B6F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19120" y="1082520"/>
            <a:ext cx="7877160" cy="532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5:43Z</dcterms:modified>
  <cp:revision>307</cp:revision>
  <dc:subject/>
  <dc:title>Introduction</dc:title>
</cp:coreProperties>
</file>