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194A-1885-4D13-A1EE-98D7D9245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8B95-2210-4FEF-A807-C2FD61816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40E-96FC-49F0-8ECA-9F946A38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DC9-4056-4761-AD43-48C22127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4E4-466C-459F-ACB8-449B9E54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6E1-9002-49D8-BBA9-58462AB8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8BE-89F8-4208-93E8-CCA2541A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564-F2B9-474D-A39F-07EDBA34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5BB-287D-4284-BA6B-F335FA51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AC2-A56B-4B73-9BB4-07865BBD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E72-7185-48A4-A68A-FEFFC084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36B-037A-48FE-9F0D-5C5A5D23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1E8-8748-4609-BF7D-1D6BB48C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CAC-8291-4937-8324-6A170ED2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C211-B355-48C8-A626-900B51213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942320" y="6561000"/>
            <a:ext cx="1197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E498-8FB7-49BF-92BD-014EDA81973C}" type="slidenum">
              <a:rPr b="0" lang="en-US" sz="1200" spc="-1" strike="noStrike">
                <a:solidFill>
                  <a:srgbClr val="40404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404040"/>
                </a:solidFill>
                <a:latin typeface="Arial Black"/>
              </a:rPr>
              <a:t>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849400" y="65160"/>
            <a:ext cx="60454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ortant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487440" y="1039680"/>
            <a:ext cx="7904160" cy="5378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2-15T17:27:50Z</dcterms:modified>
  <cp:revision>313</cp:revision>
  <dc:subject/>
  <dc:title>Introduction</dc:title>
</cp:coreProperties>
</file>