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117-238D-4AE3-AC4D-51342875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B09-58D7-437E-A97F-F7DA0BF1B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D3D-F6B5-465C-8AFE-D3DCFF3C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D29-87B9-403D-9269-C332792A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8C0-681B-4FE0-B006-7E4E9579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37B-194B-4D78-96D9-A3FE9503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C18-9ECF-49B2-BB21-D53A060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A94-08B0-4F64-BB96-6202DF4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953-8C54-4E8D-8B6F-6FDA0CF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4C1-A9A9-4E67-83D9-9BAF5B4C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FE6-C0C0-4B35-B616-2E5F027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28B-3D72-4F48-BCCA-C928E93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F13-86E7-4B99-8210-3053934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13A-7F05-4DFC-A4EC-4F50384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696-C8B2-4212-A38F-C95412795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10E0-7458-4C1F-BF10-41C01FFF5CA5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0" r="2494" b="0"/>
          <a:stretch/>
        </p:blipFill>
        <p:spPr>
          <a:xfrm>
            <a:off x="495360" y="1049400"/>
            <a:ext cx="7680240" cy="539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6:36Z</dcterms:modified>
  <cp:revision>310</cp:revision>
  <dc:subject/>
  <dc:title>Introduction</dc:title>
</cp:coreProperties>
</file>