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F034B-97D9-4694-A11D-E625FB4F3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5FC67-C845-44CF-83B3-AAB0CDE37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9961-2780-4C10-B9B7-347D8DA74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7B37-3135-4E2C-8FFD-4CA324D11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394C-531C-497E-8973-8EE9E7867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5A15-3EEC-42B3-8FC4-B81F87FC9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0DBF-D4A1-4EC7-BEC5-F935469B4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A39B-3B26-48F6-BE22-F6817823F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31F8-3AFD-4EB9-A37E-52244B28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C844-744F-459E-B79D-51712F5C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349C-7CED-46E1-AB6D-7B5EC21B7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CA22-D751-4394-9067-6A3910FA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6200-08BE-4C65-94E4-6AE9E6A6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B01F-B6FA-4C87-A1AE-7E6F4A44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B6304-9C80-4757-B6D9-F05A5D5353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6C181-2137-491F-BCCE-ACF423B1966C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3"/>
          <p:cNvSpPr/>
          <p:nvPr/>
        </p:nvSpPr>
        <p:spPr>
          <a:xfrm>
            <a:off x="2849400" y="65160"/>
            <a:ext cx="6045480" cy="581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mportant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482760" y="1039680"/>
            <a:ext cx="7913520" cy="53787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6:05:24Z</dcterms:created>
  <dc:creator>Ron</dc:creator>
  <dc:description/>
  <dc:language>en-US</dc:language>
  <cp:lastModifiedBy>Scott Scull</cp:lastModifiedBy>
  <dcterms:modified xsi:type="dcterms:W3CDTF">2013-02-15T17:27:02Z</dcterms:modified>
  <cp:revision>311</cp:revision>
  <dc:subject/>
  <dc:title>Introduction</dc:title>
</cp:coreProperties>
</file>