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16C2-7CE5-4E14-B52C-EC2A6DC03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CCF9-2A60-49A4-A69C-EC854672A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A22-48CA-4C40-A86F-EC05DBAD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57D0-9D2C-42BA-A4E3-6EACFE28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73F-2617-414A-A160-A2DE2419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672-4881-4496-BDAD-7B0DF321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371-D6EF-42EC-A19E-8E261066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4DB-2EF9-4CF1-94B4-5D459878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644-B3A2-4F9F-929B-BCC0394A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E14-B6DE-487F-8963-EE5EF868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B97-40D0-40D9-850A-51165C98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A7B-710B-40E5-A7C0-C9E842AE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B356-CE35-4851-9096-EB3A37C5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1BB-52E5-48A9-A23E-6333AF08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2C8A-B7C3-4CCD-873A-08104B7FD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16BD-F475-485C-BFD4-197041A56A18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19120" y="1057320"/>
            <a:ext cx="7877160" cy="5375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6:12Z</dcterms:modified>
  <cp:revision>309</cp:revision>
  <dc:subject/>
  <dc:title>Introduction</dc:title>
</cp:coreProperties>
</file>